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Butterfly.wav" ContentType="audio/x-wav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16F6-BBF7-45C2-B9EA-23D8ACBF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37C2-0C3F-4D58-BA90-1F7A8EAA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6E32-DFD3-4DD2-9EFB-333F045C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8601-5961-4D46-A403-C0AB182E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3725-3040-4260-AE9F-A9D9F88D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6B5F-EDDC-41A6-A3EF-2EB54C0F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0E0F-3CC5-4962-8FB8-828DC021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D04E-9F46-4891-B1E8-B77CFC2E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1450-88FD-4544-BDA1-C841FE5E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4AD6-A326-41C4-B58F-1CBA76C8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69B3-7851-4595-A66A-4568270A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38D6-B471-4206-9EEE-25FB4875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3E34-D8B8-46E1-8E65-CE8A725F363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utterfly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333360"/>
            <a:ext cx="295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549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6600"/>
                </a:solidFill>
                <a:latin typeface="Arial"/>
              </a:rPr>
              <a:t>Cada persona es mi flor y allí voy yo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580536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6600"/>
                </a:solidFill>
                <a:latin typeface="Arial"/>
              </a:rPr>
              <a:t>Elige tú flor y enví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84720" y="6165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Llevo mú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537372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Arial"/>
              </a:rPr>
              <a:t>He aprendido....Que deberíamos estar contentos que Dios no nos dio todo lo que pedim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rendido....Que el dinero no compra am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404640"/>
            <a:ext cx="136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6633"/>
                </a:solidFill>
                <a:latin typeface="Arial"/>
              </a:rPr>
              <a:t>He aprendido....Que el dinero no compra am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587700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He aprendido....Que las pequeñas cosas de todos los días hacen la vida tan espectacul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32360" y="54936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bajo la coraza más dura hay alguien que quiere ser apreciado y am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501336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El Señor no lo hizo todo en un día. ¿Qué me hace pensar que yo pue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6028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e aprendido....Que cuando planeas vengarte de alguien, estás dejando que esa persona continúe hiriéndo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1052640"/>
            <a:ext cx="230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9900"/>
                </a:solidFill>
                <a:latin typeface="Arial"/>
              </a:rPr>
              <a:t>He aprendido....Que el amor y no el tiempo cierra todas las heri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333360"/>
            <a:ext cx="298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He aprendido....Que la forma más fácil de crecer como persona es rodearme de gente más capaz que y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573408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He aprendido....Que todos con los que te encuentras se merecen que los recibas con una sonri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436572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He aprendido....Que nadie es perfecto hasta que te enamoras de esa perso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-171360"/>
            <a:ext cx="9144000" cy="720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333360"/>
            <a:ext cx="24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cuando sólo una persona me dice, "Tú me alegraste el día", me alegra el dí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537372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 aprendido....Que la vida es dura pero yo soy más du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19700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las oportunidades nunca se pierden; alguien tomará la que dejaste pasar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443700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ccff"/>
                </a:solidFill>
                <a:latin typeface="Arial"/>
              </a:rPr>
              <a:t>He aprendido....Que debemos mantener nuestras palabras tiernas, porque mañana tal vez debamos masticarlas</a:t>
            </a:r>
            <a:r>
              <a:rPr b="0" lang="es-ES" sz="1800" spc="-1" strike="noStrike">
                <a:solidFill>
                  <a:srgbClr val="33cc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54936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9900"/>
                </a:solidFill>
                <a:latin typeface="Arial"/>
              </a:rPr>
              <a:t>He aprendido....Que una sonrisa es una forma muy barata de mejorar la pres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1628640"/>
            <a:ext cx="273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ccff"/>
                </a:solidFill>
                <a:latin typeface="Arial"/>
              </a:rPr>
              <a:t>He aprendido... Que no puedo decidir como me siento, pero si puedo decidir que voy a hacer al respec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4437000"/>
            <a:ext cx="237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e aprendido....Que mientras menos tiempo tengo disponible, más cosas termi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40360" y="33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 aprendido que la mujeres alegran a los hombres y los hombres alegran a las mujeres, pero siempre cuando ambos se tratan con cari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9000"/>
            <a:ext cx="37432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Arial"/>
              </a:rPr>
              <a:t>He aprendido que los buenos amigos y amigas se preocupan de saber que me agrada y además conocen mi fecha de naci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6360" y="620640"/>
            <a:ext cx="25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He aprendido que entregar amor a todos  es mi mejor arma  y deseo compartir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3716280"/>
            <a:ext cx="3095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Hoy he apr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Que cuando dos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Quieren, además 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ami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907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He aprendido....Que cuando te amarras a tu amargura, la felicidad amarrará en otro muel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549360"/>
            <a:ext cx="374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</a:rPr>
              <a:t>Hoy he apr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</a:rPr>
              <a:t>Que reir me hace bien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</a:rPr>
              <a:t>Ser alegre es contagioso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333360"/>
            <a:ext cx="324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Hoy he apr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Que querer es herm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Y amar es div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765000"/>
            <a:ext cx="2087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9900"/>
                </a:solidFill>
                <a:latin typeface="Arial"/>
              </a:rPr>
              <a:t>Hoy he aprendido que 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9900"/>
                </a:solidFill>
                <a:latin typeface="Arial"/>
              </a:rPr>
              <a:t>Pueden ser u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64000" y="260280"/>
            <a:ext cx="3240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</a:rPr>
              <a:t>Hoy he aprendido que ser positivo 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</a:rPr>
              <a:t>Usar mi intelig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12000" y="476280"/>
            <a:ext cx="2881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Hoy he apren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Que todos tienen capacidad de amar, pero algunos aún  no lo s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4797360"/>
            <a:ext cx="30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Hoy he aprendido que volar es hermoso y que se puede hacer sen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00720" y="549360"/>
            <a:ext cx="3958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Hoy he aprendido que sen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Tiene varias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Y algunos no sabemos sub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algunos peld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26028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be0e3"/>
                </a:solidFill>
                <a:latin typeface="Arial"/>
              </a:rPr>
              <a:t>Hoy he sentido el uso de los colores y que me pongo cada d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404640"/>
            <a:ext cx="33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ccff"/>
                </a:solidFill>
                <a:latin typeface="Arial"/>
              </a:rPr>
              <a:t>Hoy he sentido que siendo humilde, soy más grande y poder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549360"/>
            <a:ext cx="208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</a:rPr>
              <a:t>Hoy he sentido que dar es, mi regoci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9280" y="404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 aprendido....Que desearía haberle dicho a mi Padre que lo quiero, una vez más, antes de que fallecie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907920"/>
            <a:ext cx="2376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Hoy he sentido que todos tenemos una inmensa capacidad de amar y pocos lo sabe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59280" y="4292640"/>
            <a:ext cx="338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Hoy he sentido que los sentidos se desarrollan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Y también se atrof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-181080" y="-142920"/>
            <a:ext cx="9325080" cy="7000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11280" y="404640"/>
            <a:ext cx="741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Hoy he sentido que la vida es corta  y hermos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y deseo compartirlo conti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620640"/>
            <a:ext cx="18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 aprendido... Que cuando estás enamorado, se no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333360"/>
            <a:ext cx="216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ser bondadoso es más importante que tener la raz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76280"/>
            <a:ext cx="230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He aprendido....Que nunca debemos rechazar el regalo de un ni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54936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 Que yo siempre puedo rezar por otro cuando no tengo las fuerzas para ayudarlo de alguna otra manera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6360" y="476280"/>
            <a:ext cx="24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He aprendido....Que la vida es como un rollo de papel; mientras más se acerca a su fin, más rápido se acab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6:53:04Z</dcterms:created>
  <dc:creator>Pierworodny</dc:creator>
  <dc:description/>
  <dc:language>en-US</dc:language>
  <cp:lastModifiedBy>Juan Carlos Newman</cp:lastModifiedBy>
  <dcterms:modified xsi:type="dcterms:W3CDTF">2007-09-10T02:38:18Z</dcterms:modified>
  <cp:revision>9</cp:revision>
  <dc:subject/>
  <dc:title>Slajd 1</dc:title>
</cp:coreProperties>
</file>