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47DB-290C-4FF5-8982-368D03194EF0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EB58-A8CF-440C-9802-C2D5A97A4A7C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9E5-9017-417E-867E-A7820961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807-7234-4CD1-9B07-EAB3824F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347-4840-4BC9-8FD6-F4B04FCB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A0B-3502-4E97-9F29-5D0639BA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BDA-FCA3-4B48-80B4-9CFF241B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BF1-6513-4ABC-9616-8D8D493D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ACF-57D6-4CCB-B7E3-EE92A223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81E-6CAF-43A8-B065-93B8C016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500-28DD-4381-A798-FE33CD29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39F-2CD8-45F4-8EAC-BBB3A22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8FD-813D-45BF-ADC3-7130EB95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D30-C6C6-4449-A85E-A8940E1A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AA67-7BD8-4EBF-BAA1-4005F07B54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498906674_d9e4438546_b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161645"/>
                </a:solidFill>
                <a:latin typeface="Britannic Bold"/>
                <a:ea typeface="바탕"/>
              </a:rPr>
              <a:t>La Fundación Con Vida tiene el placer de invitarles al Conversator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“</a:t>
            </a: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El  Origen de los Paisas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45"/>
                </a:solidFill>
                <a:latin typeface="Script MT Bold"/>
                <a:ea typeface="바탕"/>
              </a:rPr>
              <a:t>Por: Ricardo Saldarriaga Gav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Script MT Bold"/>
                <a:ea typeface="바탕"/>
              </a:rPr>
              <a:t>Una aproximación arqueológica a la identificación de las huellas prehispánicas  de nuestros múltiples orígene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Mayo 23 de 2008,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Sede Fundación Con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ra 68 A No. 46-A-7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Valor: $20.000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161645"/>
                </a:solidFill>
                <a:latin typeface="Britannic Bold"/>
                <a:ea typeface="Arial"/>
              </a:rPr>
              <a:t>(incluye copa de vino, pasabocas, plato fuerte y sorpresa musical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onfirmar asistencia al Tel: 2600237-260208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e-mail: fconvida@gmail.com</a:t>
            </a:r>
            <a:r>
              <a:rPr b="0" lang="es-CO" sz="20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61645"/>
                </a:solidFill>
                <a:latin typeface="Script MT Bold"/>
                <a:ea typeface="Arial"/>
              </a:rPr>
              <a:t>¡Esperamos Contar Con Tu Agradable Pres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0:21:53Z</dcterms:created>
  <dc:creator>   </dc:creator>
  <dc:description/>
  <dc:language>en-US</dc:language>
  <cp:lastModifiedBy>WinuE</cp:lastModifiedBy>
  <dcterms:modified xsi:type="dcterms:W3CDTF">2008-05-21T00:44:03Z</dcterms:modified>
  <cp:revision>24</cp:revision>
  <dc:subject/>
  <dc:title>Conversatorio  “El  Origen De  Los Paisas”  </dc:title>
</cp:coreProperties>
</file>