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2BEA-2213-46ED-9BC1-BF99DFBC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9BE-504C-43A4-AE74-9F5C1AFD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954-4CD1-4267-B7EF-899E358A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CF1-C997-488C-AA17-AC20BA3A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B33AB-0193-4829-8710-7F60FBF9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2100E-7642-4B87-BC51-FBDE7705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5A589-11C6-4CCD-8C03-4A5BDDF6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AAB16-8E8C-4C8E-B98F-2AAA42FF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78226-9121-4B62-A5C4-8FEDB732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FB09F-3FB4-4C67-9976-12A61424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C2331-C9F4-4CDB-9853-9DD13A7E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C46-AA7B-41DF-AE70-4DE71036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1398C-DF22-4A30-A651-63C3513F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607B2-B9D2-459A-8C94-EFF68BA8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8D6F0-9015-403F-A8F1-387FD0E7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58B75-2CAE-47FE-9720-917167B0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0F3B8-511D-4ABC-9CF2-26F9C12E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475B8-23F1-4724-BA43-A0A27488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6DD19-4921-4092-8C17-FFB7943B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7C138-FFC2-440D-B7AF-5B22A91B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4F0B1-2304-4E28-9F10-BB391A66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A6413-56BC-45FA-B023-3748834E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30A-D070-4180-892F-8AC3ED6F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6B8E7-742F-4CE4-BE09-518475A9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8F9B3-DD74-4515-B17B-B58841A8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FBE05-03FE-4A55-9DFA-68E05657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BABCA-F900-437F-9C34-D6A77DF0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FF42-B781-4D65-976A-1CFAA158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8B36D-1B7F-4196-8258-731AEEFA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D5E03-B845-4022-A9EF-BD09099D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8CCEEE-56EC-4203-A1C2-8F4B958B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6B05A6-C4B7-4EC5-9F45-0A6ABE6F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2C3196-2955-4D6D-B384-A3341E5E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7707-B540-4FE1-8141-131889F3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2E80DE-DB9A-4D86-A181-1735EEDE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D6B13A-0BF4-415A-8796-27F43404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8B889D-70DD-412E-8CDA-2254D7D8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3CAB3A-3712-4F71-8310-F424F46D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AA0663-6872-4D07-9F4E-47684D70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758141-6B53-4E70-80F1-8A5D2B34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7E3497-16C4-4694-8AB8-17A3BF1A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E12456-BDCA-4DB2-AABF-93A4B7E1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15ED63-3F40-4AD7-8F51-3657CE35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2E509E-81AF-4EFB-9112-C357F1D4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52E-0778-466E-8710-0D68DD5F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08A5AA-E1A6-4300-A5AA-76408378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E8EEF9-D330-4AC5-B6D3-07968F65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EEF8A7-23ED-4430-99B7-FFDBB1A8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07CB27-1C79-4110-B3E6-9DC1E642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4DE79-6B0D-463F-A1CB-06D808CD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98FC4E-3B7A-4B77-B9A9-855ED39A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6F7368-7826-4CA8-A922-6C5BFB03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FE096-7E4D-404B-8F6C-7B323308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51A449-FCCE-4B8C-B1CC-04A749E9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F973A7-FF8B-4FD0-B3E6-73ADAC31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A3BD-2465-4724-B9DD-320FA68F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55D117-550F-4E5B-B2B9-55E593A3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58728-213C-4B8D-A1D7-7FF2C346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0436C8-39C5-4704-AAFD-6DD66D54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3E8277-611D-46DB-B242-D3587980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6C75C5-BDE3-49A3-9E86-58E99CA6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83165-78B8-41ED-919A-E4E991DC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4937C2-5FC8-4038-9AF5-16C5AA3C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3019E8-8A25-4A17-9C1D-B90C2AC0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3DD04D-1016-4349-A9F1-3F83A46D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88841D-BB1A-42D0-BD5F-3C6FEE82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70CE-5F13-4013-9258-D58CD4EE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3A762-79FE-462B-A0B1-8184E7B0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02F9BA-A349-4665-962E-D48331B7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07B5A8-8D6E-4052-BE01-FFED771F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D92D-41A2-4C27-B932-3F601EF7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C6F-87C5-48EF-A475-5700EC2E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9191-9364-463E-B070-686561E05D92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10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EB26-616F-47CE-A945-A9C25D22A258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C044-18FE-4119-89EE-B21C25F1E9AF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3768-10B6-49EE-B7D6-7FE42DC70456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19C5-12FE-4C0D-BEB3-923AEC475A72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B54D-F992-4C32-A6E8-77EB7F0A5B35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8 Rectángulo" descr=""/>
          <p:cNvPicPr/>
          <p:nvPr/>
        </p:nvPicPr>
        <p:blipFill>
          <a:blip r:embed="rId1"/>
          <a:stretch/>
        </p:blipFill>
        <p:spPr>
          <a:xfrm>
            <a:off x="-201600" y="-6480"/>
            <a:ext cx="9547200" cy="741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02:19:56Z</dcterms:created>
  <dc:creator>WinuE</dc:creator>
  <dc:description/>
  <dc:language>en-US</dc:language>
  <cp:lastModifiedBy>WinuE</cp:lastModifiedBy>
  <dcterms:modified xsi:type="dcterms:W3CDTF">2008-05-23T03:47:22Z</dcterms:modified>
  <cp:revision>3</cp:revision>
  <dc:subject/>
  <dc:title>Diapositiva 1</dc:title>
</cp:coreProperties>
</file>