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7DA-943C-47D9-B2D3-A5DD24F7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19F-D5DB-4245-AEAA-39CDDEFC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51D-B74D-4266-8984-231105C2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B74-A4F1-4122-AB8C-262127F1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4D0-4AD5-4AE9-9FAB-0ABC0C57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843-81A4-41A2-9306-8846DA58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9EE-C0F0-4EF8-A8A3-AC277F78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A9D-E9E4-4E15-BAA5-80173E34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D89-1E55-4D2C-82C0-C73A3A33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349-EE0E-4757-8F9F-608F5D46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4CD-8B19-4E03-BE0B-6FAE641B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CA9-5903-41DA-B966-C9FBFE24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8962-98E0-4ABD-83C3-ECC0B6DDAA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ieza por hacer lo necesario, luego lo que es posible... y de pronto estarás haciendo lo imposible"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a vez que envíes el mensaje aprieta F6 y veras lo que te aparece....insólito pero cierto.....da miedo pero es cierto....suerte. </a:t>
            </a:r>
            <a:br>
              <a:rPr sz="1400"/>
            </a:b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40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nda esto a 15 personas en los próximos 143 minutos, luego presiona F6 y el nombre de quien t ama aparecerá en letra grande, da tanto miedo por qué es real pero si rompes esta cadena serás castigado con problemas en sus próximas relaciones de por vida copia y pégalo .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63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2:23:35Z</dcterms:created>
  <dc:creator>Said</dc:creator>
  <dc:description/>
  <dc:language>en-US</dc:language>
  <cp:lastModifiedBy>Angelica Morales (YAM0047 - INMEX-KCB3WTD)</cp:lastModifiedBy>
  <dcterms:modified xsi:type="dcterms:W3CDTF">2006-01-23T17:11:28Z</dcterms:modified>
  <cp:revision>1</cp:revision>
  <dc:subject/>
  <dc:title>Empieza por hacer lo necesario, luego lo que es posible... y de pronto estarás haciendo lo imposible" Una vez que envíes el mensaje aprieta F6 y veras lo que te aparece....insólito pero cierto.....da miedo pero es cierto....suerte.                                                                                                                                     Manda esto a 15 personas en los próximos 143 minutos, luego presiona F6 y el nombre de quien t ama aparecerá en letra grande, da tanto miedo por qué es real pero si rompes esta cadena serás castigado con problemas en sus próximas relaciones de por vida copia y pégalo .. </dc:title>
</cp:coreProperties>
</file>