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037-7CAE-4019-9914-9FB7F604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928-9CB1-4EA1-9E64-F2E9DEA0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A6A-CBDE-413E-8C13-194EFFF4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21B-1D54-4328-AF11-87C18B27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D66-8FC3-4EF5-A874-28B72F03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564-13E3-44B9-8CE4-DFC6E214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B6D-C22E-4393-826D-3386F7DF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F50-54EC-470A-A3A5-0979825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B70-2C60-4B2D-91B1-2C72DC09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C8B-335C-4CCE-A47B-04BCD990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57C-324B-49DA-ABCC-46BA13F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776-EF59-4157-BC7A-14B54D1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0F57-CC4E-4671-8AD5-7E8B85665AB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pezMurphy001revistatropasusa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5638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¿Quien pensaría de estas personas? limpi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ulcras, con familias, siendo unos bueno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sposos, excelentes padres, buenos amigo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iudadanos ejemplares en E U A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buso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inoiraq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dadospola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orturas" descr=""/>
          <p:cNvPicPr/>
          <p:nvPr/>
        </p:nvPicPr>
        <p:blipFill>
          <a:blip r:embed="rId1"/>
          <a:stretch/>
        </p:blipFill>
        <p:spPr>
          <a:xfrm>
            <a:off x="838080" y="6480"/>
            <a:ext cx="73152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ortura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orturas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orturas12" descr=""/>
          <p:cNvPicPr/>
          <p:nvPr/>
        </p:nvPicPr>
        <p:blipFill>
          <a:blip r:embed="rId1"/>
          <a:stretch/>
        </p:blipFill>
        <p:spPr>
          <a:xfrm>
            <a:off x="228600" y="90360"/>
            <a:ext cx="8915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ortur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orturas14" descr=""/>
          <p:cNvPicPr/>
          <p:nvPr/>
        </p:nvPicPr>
        <p:blipFill>
          <a:blip r:embed="rId1"/>
          <a:stretch/>
        </p:blipFill>
        <p:spPr>
          <a:xfrm>
            <a:off x="0" y="343080"/>
            <a:ext cx="4651200" cy="6172200"/>
          </a:xfrm>
          <a:prstGeom prst="rect">
            <a:avLst/>
          </a:prstGeom>
          <a:ln w="0">
            <a:noFill/>
          </a:ln>
        </p:spPr>
      </p:pic>
      <p:pic>
        <p:nvPicPr>
          <p:cNvPr id="65" name="torturas18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759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rturas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rturas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55627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siendo unos de los paises del primer mundo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una de las potencias mundiales mas podereros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eniendo en su país las Universisdades ma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restigiadas....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orturas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orturas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orturas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ortura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orturas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orturas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ortura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orturas6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orturas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orturas9" descr="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srest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2920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contando con la preparación intelectual que tienen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ontando con genios en las diferentes ramas Física, Química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Matemáticas, Astronomía, Medicína, etc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orturasDetenidos0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0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orturasDetenidos0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orturasDetenidos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rture10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ushpav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" y="34290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pero eso si despues de haber demostrado al mundo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entero y a los habitantes del Medio Oriente de 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su poderío, celebran el día de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"acción de gracias"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copi" descr=""/>
          <p:cNvPicPr/>
          <p:nvPr/>
        </p:nvPicPr>
        <p:blipFill>
          <a:blip r:embed="rId1"/>
          <a:stretch/>
        </p:blipFill>
        <p:spPr>
          <a:xfrm>
            <a:off x="609480" y="-19080"/>
            <a:ext cx="784872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38080" y="457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¿Gracias, gracias de que, de sus violacione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y abusos?....¿para que cuando lleguen a su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País, los vean como héroes?, 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22860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¿Para que cuando lleguen a sus casas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los vean como esposos, padres, amigos y 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vecinos ejemplares?....Aunque para mucha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gente ya se le olvidó, todo esto queda marcado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para la historia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5638680"/>
            <a:ext cx="7086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y eso depende de tí, que borres este e-mail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o lo compartas con tus contactos, para que n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mos cuenta de lo que es capaz el Ser Humano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n tal de demostrar ¡¡PODER!!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0463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5486400"/>
            <a:ext cx="857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lementos de sus fuezas armadas se hayan comportado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unas verdaderas bestias, como unos neandertales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etiendo un sin fin de abusos y violaciones a l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rechos civiles,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0441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571500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de los civiles y violando el tratado de Gibraltar;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las imagenes que veras son fuertes no aptas para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personas susceptibles...solo tu puedes ser el Juéz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nternacionales-20050130-0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torturas11" descr=""/>
          <p:cNvPicPr/>
          <p:nvPr/>
        </p:nvPicPr>
        <p:blipFill>
          <a:blip r:embed="rId2"/>
          <a:stretch/>
        </p:blipFill>
        <p:spPr>
          <a:xfrm>
            <a:off x="452916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inair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raque-Prisiomeiro%2520e%2520Pa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ijosdeSadd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46:02Z</dcterms:created>
  <dc:creator>SEP</dc:creator>
  <dc:description/>
  <dc:language>en-US</dc:language>
  <cp:lastModifiedBy>Reyna Soto</cp:lastModifiedBy>
  <dcterms:modified xsi:type="dcterms:W3CDTF">2006-03-03T21:42:54Z</dcterms:modified>
  <cp:revision>3</cp:revision>
  <dc:subject/>
  <dc:title>Presentación de PowerPoint</dc:title>
</cp:coreProperties>
</file>