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Butterfly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599-ABD1-4708-99AA-7F1713C4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9F7-51C0-4F3D-B29C-C24E4436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261-4341-44ED-B833-DB69CBE5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974-A7CE-410C-884B-3735A325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E45-3491-4FB0-827B-2714D795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CF1-D125-4F95-A480-C0F7D081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692-F7C8-4B78-B979-1C46B1FA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1C2-A735-40D2-B2F9-C100F57A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0A8-A074-4533-9CCA-E87C273D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E71-E428-4E8D-9146-D708F5BE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6C4-CD35-4BF3-AA2E-F8CC7C6E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87A-1CC1-45D9-A701-E61C7D8D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F06A-BAD8-45A3-A856-D17C4BA967C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tterfly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33336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Cada persona es mi flor y allí voy y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80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lige tú flor y enví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61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Llevo 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537372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He aprendido....Que deberíamos estar contentos que Dios no nos dio todo lo que pedi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04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6633"/>
                </a:solidFill>
                <a:latin typeface="Arial"/>
              </a:rPr>
              <a:t>He 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87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s pequeñas cosas de todos los días hacen la vida tan especta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5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bajo la coraza más dura hay alguien que quiere ser apreciado y am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5013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El Señor no lo hizo todo en un día. ¿Qué me hace pensar que yo pue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6028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cuando planeas vengarte de alguien, estás dejando que esa persona continúe hiriénd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052640"/>
            <a:ext cx="23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9900"/>
                </a:solidFill>
                <a:latin typeface="Arial"/>
              </a:rPr>
              <a:t>He aprendido....Que el amor y no el tiempo cierra todas las her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33336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la forma más fácil de crecer como persona es rodearme de gente más capaz que y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573408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 aprendido....Que todos con los que te encuentras se merecen que los recibas con una sonr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36572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e aprendido....Que nadie es perfecto hasta que te enamoras de esa pers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71360"/>
            <a:ext cx="9144000" cy="72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3336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cuando sólo una persona me dice, "Tú me alegraste el día", me alegra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3737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la vida es dura pero yo soy más d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197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las oportunidades nunca se pierden; alguien tomará la que dejaste pasar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3700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.Que debemos mantener nuestras palabras tiernas, porque mañana tal vez debamos masticarlas</a:t>
            </a:r>
            <a:r>
              <a:rPr b="0" lang="es-ES" sz="1800" spc="-1" strike="noStrike">
                <a:solidFill>
                  <a:srgbClr val="33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9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e aprendido....Que una sonrisa es una forma muy barata de mejorar la pres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62864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 Que no puedo decidir como me siento, pero si puedo decidir que voy a hacer al resp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43700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mientras menos tiempo tengo disponible, más cosas term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3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 que la mujeres alegran a los hombres y los hombres alegran a las mujeres, pero siempre cuando ambos se tratan con car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9000"/>
            <a:ext cx="3743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He aprendido que los buenos amigos y amigas se preocupan de saber que me agrada y además conocen mi fecha de na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620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e aprendido que entregar amor a todos  es mi mejor arma  y deseo compartir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716280"/>
            <a:ext cx="3095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e cuando dos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ieren, además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a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cuando te amarras a tu amargura, la felicidad amarrará en otro muel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549360"/>
            <a:ext cx="374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Que reir me hace bie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Ser alegre es contagioso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33360"/>
            <a:ext cx="324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Que querer es herm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amar es div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765000"/>
            <a:ext cx="20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oy he aprendido que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Pueden ser 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60280"/>
            <a:ext cx="32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aprendido que ser positivo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Usar mi intel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76280"/>
            <a:ext cx="288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oy he apr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Que todos tienen capacidad de amar, pero algunos aún  no lo s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797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aprendido que volar es hermoso y que se puede hacer s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549360"/>
            <a:ext cx="3958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oy he aprendido que sen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Tiene varias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Y algunos no sabemos sub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algunos pel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60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be0e3"/>
                </a:solidFill>
                <a:latin typeface="Arial"/>
              </a:rPr>
              <a:t>Hoy he sentido el uso de los colores y que me pongo cada d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40464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ff"/>
                </a:solidFill>
                <a:latin typeface="Arial"/>
              </a:rPr>
              <a:t>Hoy he sentido que siendo humilde, soy más grande y pode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4936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sentido que dar es, mi regoci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desearía haberle dicho a mi Padre que lo quiero, una vez más, antes de que falleci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907920"/>
            <a:ext cx="23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sentido que todos tenemos una inmensa capacidad de amar y pocos lo sab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4292640"/>
            <a:ext cx="33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oy he sentido que los sentidos se desarrolla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Y también se atrof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181080" y="-142920"/>
            <a:ext cx="932508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1280" y="40464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sentido que la vida es corta  y hermos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deseo compartirlo co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2064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... Que cuando estás enamorado, se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33336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ser bondadoso es más importante que tener la raz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7628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nunca debemos rechazar el regalo de un n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549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 Que yo siempre puedo rezar por otro cuando no tengo las fuerzas para ayudarlo de alguna otra manera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7628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 vida es como un rollo de papel; mientras más se acerca a su fin, más rápido se ac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53:04Z</dcterms:created>
  <dc:creator>Pierworodny</dc:creator>
  <dc:description/>
  <dc:language>en-US</dc:language>
  <cp:lastModifiedBy>Juan Carlos Newman</cp:lastModifiedBy>
  <dcterms:modified xsi:type="dcterms:W3CDTF">2007-09-10T02:38:18Z</dcterms:modified>
  <cp:revision>9</cp:revision>
  <dc:subject/>
  <dc:title>Slajd 1</dc:title>
</cp:coreProperties>
</file>