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B1D7-9079-4FDF-9B8F-CB2720EB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85D-BD8A-4C20-88AD-12449BAA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7CC7-CFD4-4044-86E1-9AF788BD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8BB-6B95-43EC-8EE8-3C86D067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973E7-71C0-49FB-921D-E99DA9C4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6E648-4A4D-412B-92FF-4D7581FC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AAA52-DE56-4888-82D4-B0F8F452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27252-4586-4C25-9603-BE02C363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E082C-975A-4D7F-9E3E-4C5B1B15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81DBE-20E5-4C80-8545-8D10A6E3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91376-1A07-4ECF-A333-BEEF96AE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0C0A-194E-487B-8BAE-8F4F9DCF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4D3EA-74B6-4B1D-9EE8-A0FAA066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AB9A4-E9CC-48AD-BAE5-E309BFBD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D16CB-4EF1-43B0-B1DB-B5FDB6A8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7F8E2-FF43-4973-A2F8-F465553E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18E29-C199-43F2-8783-A0F67ECE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8DD03-017B-4992-BDB1-8AABA722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2EC72-5857-477E-83B2-E4323991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B7D03-0B3A-4B3F-8475-1F22909E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DF5AB-9E10-461D-9700-FE399343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FF43F-F7AB-4DD1-8DE6-11825AF3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246-612F-4440-9CA9-0DA487AF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88884-CDD9-484B-B5AB-41F5B554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A9252-0BD3-4DDD-BFBA-90F6F907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D23D2-B534-41EE-902D-8368E728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3FD37-904A-4486-9A29-61E7C164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D6EB7-40A5-4B39-B07C-F7BFAB7A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CEA61-86BB-403C-B72B-BBAA66CF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7074A-C586-499D-A627-A1C5574F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7747-12D2-4514-926D-F590169F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A376-D162-4AB9-B9C3-03F05730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3EF-DFCA-4980-96DF-1706DB53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3AE-0557-45EC-BB0B-96119BCE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BE0-2F87-417D-AC81-BDEB75A4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D537-F9AE-44C5-9FA3-87C0884D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B089-BDCC-43B4-8A79-514109F812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6997-8683-4E01-BA2B-9E18EAD5EDE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55E5-01B8-4E9B-97F0-908A6C1DB25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5157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aldita saband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553440" cy="3834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82920" y="522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anto daño me has h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408720" cy="3754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51280" y="57801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lim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639880" y="907920"/>
            <a:ext cx="4019760" cy="4896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59280" y="56358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lebra ponsoñ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761080" cy="40626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Rata de dos pat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527688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deshech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547640" y="1676520"/>
            <a:ext cx="6191280" cy="36241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16360" y="52768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odio y te 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332000" y="1590840"/>
            <a:ext cx="6408720" cy="3709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32000" y="5589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ata de dos p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92360" y="1433520"/>
            <a:ext cx="5904000" cy="4227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5734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estoy hablando a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4214520" cy="4753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00360" y="5661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porque un bicho rast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88000" cy="4075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56000" y="5157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un siendo el mas mal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03280" y="1558800"/>
            <a:ext cx="6408720" cy="3603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Historia de una ca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60720" y="5661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omparado cont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256360" cy="4050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27280" y="51577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se queda muy chiq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4920" y="1557360"/>
            <a:ext cx="6192720" cy="3637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71640" y="527688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aldita sanguij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47640" y="1617840"/>
            <a:ext cx="5977080" cy="3682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16360" y="52038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aldita cucara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360" y="1471680"/>
            <a:ext cx="6335640" cy="3757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52038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que infectas donde p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360" y="1724040"/>
            <a:ext cx="6264360" cy="3505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54198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que hieres y que m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616720" cy="3965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37080" y="56358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lim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122560" y="1484280"/>
            <a:ext cx="4681440" cy="41702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200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lebra ponsoñ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979640" y="1490760"/>
            <a:ext cx="5329080" cy="42116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55641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desech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260360" y="1685880"/>
            <a:ext cx="6624720" cy="39038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57801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odio y te 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835280" y="1515960"/>
            <a:ext cx="5689440" cy="4289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Rata de dos pat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Canta: Paquita la del bar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59280" y="55641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ata de dos p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619280" y="1533600"/>
            <a:ext cx="6119640" cy="3983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16360" y="527688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estoy hablando a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332000" y="1436760"/>
            <a:ext cx="6769080" cy="3863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54198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porque un bicho rast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476360" y="1270080"/>
            <a:ext cx="6264360" cy="41274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56000" y="5516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un siendo el mas mal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30200" y="1557360"/>
            <a:ext cx="6337440" cy="40003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56358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omparado cont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332000" y="1220760"/>
            <a:ext cx="6769080" cy="44258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71640" y="5851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se queda muy chiq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4608360" cy="5184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71640" y="55641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e estas oyendo inu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690560" y="1557360"/>
            <a:ext cx="5689800" cy="3971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32000" y="513252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hiena del inf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332000" y="1387440"/>
            <a:ext cx="6481800" cy="3697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52038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anto te odio y te 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842160" cy="4005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39640" y="1141560"/>
            <a:ext cx="7993080" cy="4808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48000" y="51325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ata Inmu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06560" y="1341360"/>
            <a:ext cx="5329440" cy="3819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48000" y="47721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nimal rast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763640" y="1393920"/>
            <a:ext cx="5832720" cy="3403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32000" y="5157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escoria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264360" cy="3689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038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defecio mal h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616720" cy="3940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7840" y="530064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Infra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360" y="1746360"/>
            <a:ext cx="6191280" cy="355428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9280" y="530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expectro del inf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480360" cy="380376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22:44:20Z</dcterms:created>
  <dc:creator/>
  <dc:description/>
  <dc:language>en-US</dc:language>
  <cp:lastModifiedBy>Arrecho</cp:lastModifiedBy>
  <dcterms:modified xsi:type="dcterms:W3CDTF">2005-11-01T00:42:53Z</dcterms:modified>
  <cp:revision>10</cp:revision>
  <dc:subject/>
  <dc:title>Slide 1</dc:title>
</cp:coreProperties>
</file>