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Blackadder IT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Blackadder IT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Blackadder IT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64B5-D0FF-4420-BC8F-72BB504AAF91}" type="slidenum">
              <a:rPr b="0" lang="es-ES_tradnl" sz="1200" spc="-1" strike="noStrike">
                <a:solidFill>
                  <a:srgbClr val="000000"/>
                </a:solidFill>
                <a:latin typeface="Blackadder IT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lackadder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7285-4FBB-487C-9A41-21697CACAB82}" type="slidenum">
              <a:rPr b="0" lang="es-ES_tradnl" sz="1200" spc="-1" strike="noStrike">
                <a:solidFill>
                  <a:srgbClr val="000000"/>
                </a:solidFill>
                <a:latin typeface="Blackadder IT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lackadder IT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E4CE-FA32-4BB2-9CE3-97FA8DB0A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B2D5-2D93-45BD-843B-A6F36D8A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5FA9-8E2D-4EDD-B083-EE9CC3A09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BFEC-4052-4C31-95AE-85E52A01B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B02C-D405-469A-9EDA-9EC14081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D078-A8D2-4D26-80DB-20508BFA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D916-3585-408C-97D4-FD9D1CDD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3A1C-21C4-4CDF-904E-21FC284D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6202-103D-40F0-859D-A2B3CA88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E480-DA59-4BC7-8D01-01B5F8CA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1D52-B9F3-4560-B15B-1BFE9A13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0244-0D2F-4404-B9E3-5A18DD4A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BDF6-1A9F-473C-A349-4069134F53F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lackadder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2498906674_d9e4438546_b"/>
          <p:cNvPicPr/>
          <p:nvPr/>
        </p:nvPicPr>
        <p:blipFill>
          <a:blip r:embed="rId1"/>
          <a:stretch/>
        </p:blipFill>
        <p:spPr>
          <a:xfrm>
            <a:off x="-39672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0"/>
            <a:ext cx="88581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161645"/>
                </a:solidFill>
                <a:latin typeface="Britannic Bold"/>
                <a:ea typeface="바탕"/>
              </a:rPr>
              <a:t>La Fundación Con Vida tiene el placer de invitarles al Conversatori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d4302c"/>
                </a:solidFill>
                <a:latin typeface="Script MT Bold"/>
                <a:ea typeface="바탕"/>
              </a:rPr>
              <a:t>“</a:t>
            </a:r>
            <a:r>
              <a:rPr b="1" lang="es-CO" sz="3200" spc="-1" strike="noStrike">
                <a:solidFill>
                  <a:srgbClr val="d4302c"/>
                </a:solidFill>
                <a:latin typeface="Script MT Bold"/>
                <a:ea typeface="바탕"/>
              </a:rPr>
              <a:t>El  Origen de los Paisas”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161645"/>
                </a:solidFill>
                <a:latin typeface="Script MT Bold"/>
                <a:ea typeface="바탕"/>
              </a:rPr>
              <a:t>Por: Ricardo Saldarriaga Gavi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161645"/>
                </a:solidFill>
                <a:latin typeface="Script MT Bold"/>
                <a:ea typeface="바탕"/>
              </a:rPr>
              <a:t>Una aproximación arqueológica a la identificación de las huellas prehispánicas  de nuestros múltiples orígenes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61645"/>
                </a:solidFill>
                <a:latin typeface="Britannic Bold"/>
                <a:ea typeface="Arial"/>
              </a:rPr>
              <a:t> </a:t>
            </a:r>
            <a:r>
              <a:rPr b="0" lang="es-CO" sz="2400" spc="-1" strike="noStrike">
                <a:solidFill>
                  <a:srgbClr val="161645"/>
                </a:solidFill>
                <a:latin typeface="Britannic Bold"/>
                <a:ea typeface="Arial"/>
              </a:rPr>
              <a:t>Mayo 23 de 2008, 5:00 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61645"/>
                </a:solidFill>
                <a:latin typeface="Britannic Bold"/>
                <a:ea typeface="Arial"/>
              </a:rPr>
              <a:t>Sede Fundación Con Vid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61645"/>
                </a:solidFill>
                <a:latin typeface="Britannic Bold"/>
                <a:ea typeface="Arial"/>
              </a:rPr>
              <a:t>Cra 68 A No. 46-A-77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61645"/>
                </a:solidFill>
                <a:latin typeface="Britannic Bold"/>
                <a:ea typeface="Arial"/>
              </a:rPr>
              <a:t>Valor: $20.000 pers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300" spc="-1" strike="noStrike">
                <a:solidFill>
                  <a:srgbClr val="161645"/>
                </a:solidFill>
                <a:latin typeface="Britannic Bold"/>
                <a:ea typeface="Arial"/>
              </a:rPr>
              <a:t>(incluye copa de vino, pasabocas, plato fuerte y sorpresa musical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61645"/>
                </a:solidFill>
                <a:latin typeface="Britannic Bold"/>
                <a:ea typeface="Arial"/>
              </a:rPr>
              <a:t>Confirmar asistencia al Tel: 2600237-2602082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61645"/>
                </a:solidFill>
                <a:latin typeface="Britannic Bold"/>
                <a:ea typeface="Arial"/>
              </a:rPr>
              <a:t>e-mail: fconvida@gmail.com</a:t>
            </a:r>
            <a:r>
              <a:rPr b="0" lang="es-CO" sz="2000" spc="-1" strike="noStrike">
                <a:solidFill>
                  <a:srgbClr val="161645"/>
                </a:solidFill>
                <a:latin typeface="Britannic Bold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161645"/>
                </a:solidFill>
                <a:latin typeface="Script MT Bold"/>
                <a:ea typeface="Arial"/>
              </a:rPr>
              <a:t>¡Esperamos Contar Con Tu Agradable Presenci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20:21:53Z</dcterms:created>
  <dc:creator>   </dc:creator>
  <dc:description/>
  <dc:language>en-US</dc:language>
  <cp:lastModifiedBy>WinuE</cp:lastModifiedBy>
  <dcterms:modified xsi:type="dcterms:W3CDTF">2008-05-21T00:44:03Z</dcterms:modified>
  <cp:revision>24</cp:revision>
  <dc:subject/>
  <dc:title>Conversatorio  “El  Origen De  Los Paisas”  </dc:title>
</cp:coreProperties>
</file>