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E12F-F36B-46A9-BFB6-C6FFA03B8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7E6B-C129-4138-B309-0607E722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5C2C-7F2C-4A7C-B4A1-F04D29D2E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6F01-1E8A-4B96-90EE-36B88B80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CB8F1-F290-47F0-80BC-040059E5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D10F6-7D15-4F88-B02B-EB96F901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CFF5C-0DF2-4B64-A6E9-29D8001B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68DD5-D249-4C22-BD9E-000437E2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AED2C-4965-4849-8A92-7AD4EA73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DA81F-BEE1-41A8-BF95-780EF347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DF5FC-E59E-45D2-9545-0692A48F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28C9-433A-4098-8692-88893AD3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D1749-D1B3-4FE3-A001-D7D0A66E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2C173-631C-481B-B7C8-500FC68C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422B5-F639-41BD-8BB5-8F7DEDE3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53555-4A8A-47E1-9D8F-F0CA258B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B69AC-6D6A-4460-96AB-3AF83BE4A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2BD73-E5A9-42CE-A14B-38D47AFF5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B5ABA-C76A-4873-9758-2F48110A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5FD50-CF7C-4FAD-AE91-14BB70AA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DF2EE-5B88-4F09-8E58-964BBB2C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026A4-EBB1-4E26-8F68-9285969A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9B73-4FB2-49F0-9944-FBC15496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11390-9450-45F4-822C-6B585A41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20A79-14F2-44B4-A424-D0C9A4F7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6D0CB-4318-42E5-9027-56C56DB5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4007B-4BB2-48FE-9551-ADF904F2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F8957-66D2-4AE2-8C58-D112353E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A3206-D011-4F44-AA7F-9DB301F1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8151C-B900-4FEF-B5E0-05DB5F2C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285D93-7524-4EA2-A74C-B9574DA74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662A62-4955-41AB-B495-4FF31A19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770ED0-5498-44FD-A5B7-5434FAE8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9805-EA5F-472B-9019-B76191C4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4EDE1A-CE28-49E6-BEEF-2F458855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8AF3D9-C083-4D06-A426-AD0AF730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BCC97E-367A-4B4A-9367-0DFF9E53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7FB5F5-DFBD-42CE-B6EC-ED25209C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AA49A7-7DE9-40E6-90CA-FF3C15BE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F3C57B-4A37-43B4-98BA-F434C855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2D31E8-9EDB-497C-9A41-0A00256F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E99AF9-F6CE-4A7F-9E64-35E9AB91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130C56-EFE9-4723-8D09-22819D83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0315A2-9894-443D-A3EB-462D7F02B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201D-20CE-4132-8D81-7B5B2D68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5A1735-4D88-4602-87B4-99C9FA12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64D0CA-D2A9-4A29-8155-47A1D6BB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BFB7AB-2366-4128-BE05-99E9A94C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BF7FD5-CC02-4889-904E-59A52307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993FC3-180C-4C05-8246-5D164CB3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D878BC-1B45-4A50-93FA-6DC05D47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D3439E-514D-45AF-BC73-4A08F695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0ABD7C-A5D3-43BB-8082-2EFE5CEC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59D5E4-9D71-41B1-9355-56C060A2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DACD44-8B63-4C5A-A092-9223ADC6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382D-755E-47A9-9FF6-0058BF3D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693DF2-A1D8-4622-B442-EAD18954E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68CC56-0D01-434B-936C-0B744A40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754154-2F19-4075-BC57-0D085D23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29C63F-26B6-430E-ACFB-A441142A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232718-0281-4E88-8B12-2BADA9FE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EC2459-6955-4263-9B3A-E536062A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5CE8F9-911F-4376-95F6-C6739B7B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B918ED-1E02-471B-A284-0BE5A4A9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7264F7-1814-473C-ABC9-4CF8D901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DA8BA7-E969-49E4-9DEB-6B5F59C3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06B8-9942-46EE-B7DC-399D282A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FD21DB-ED2F-4473-B572-DFAF4713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3B7EE1-8C38-454E-A26F-3E7F97E32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D7F32A-EC2D-4FB4-A4C4-D6F12DB1A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47A0-4481-40B6-B70D-9B7308D0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6991-C808-48DA-9626-573852E4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C1BC-14D9-498F-AEA4-D04CF44F2E9C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onector recto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7 Conector recto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10 Elipse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ED6C-CEFC-4B17-AD28-426B72140F74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6 Conector recto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CE69-CC07-4F19-AA6D-E79125302320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6 Conector recto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7 Conector recto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B81D-6298-4EE4-BD23-C1EC5B03A5CA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9DD9-5CF0-4312-BAAB-77C1ED74D740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8885-0095-4C4D-BF87-C7419E321354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8 Rectángulo" descr=""/>
          <p:cNvPicPr/>
          <p:nvPr/>
        </p:nvPicPr>
        <p:blipFill>
          <a:blip r:embed="rId1"/>
          <a:stretch/>
        </p:blipFill>
        <p:spPr>
          <a:xfrm>
            <a:off x="-201600" y="-6480"/>
            <a:ext cx="9547200" cy="741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02:19:56Z</dcterms:created>
  <dc:creator>WinuE</dc:creator>
  <dc:description/>
  <dc:language>en-US</dc:language>
  <cp:lastModifiedBy>WinuE</cp:lastModifiedBy>
  <dcterms:modified xsi:type="dcterms:W3CDTF">2008-05-23T03:47:22Z</dcterms:modified>
  <cp:revision>3</cp:revision>
  <dc:subject/>
  <dc:title>Diapositiva 1</dc:title>
</cp:coreProperties>
</file>