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60A73-BB81-4C5A-9CAB-8436C42D6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74500-A2B3-4002-8BF1-D738B8CC8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C5553-78C3-4082-8FF2-EBF141246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AF121-C8D2-44AB-9139-8A419CA82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B7282-690B-4311-9CEE-BDBD7D97B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09977-8230-4994-AAD8-409A6045F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B85B6-EB72-4369-8782-AADBDF481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B4BEA-1E55-43BD-91E2-DE651BE15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23A3A-3C62-40F4-8572-4233DF7A7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F629D-2CB7-49DE-86B1-8174EEB9B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A5AA2-A741-4101-AB54-5BE4CD5C2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C9B94-2D1F-43DA-B469-DE47AA5A0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0C5FC-CADF-4F52-9193-7DBF9F012499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Empieza por hacer lo necesario, luego lo que es posible... y de pronto estarás haciendo lo imposible"</a:t>
            </a:r>
            <a:br>
              <a:rPr sz="1400"/>
            </a:b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Una vez que envíes el mensaje aprieta F6 y veras lo que te aparece....insólito pero cierto.....da miedo pero es cierto....suerte. </a:t>
            </a:r>
            <a:br>
              <a:rPr sz="1400"/>
            </a:br>
            <a:br>
              <a:rPr sz="4000"/>
            </a:b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                                                                                             </a:t>
            </a:r>
            <a:br>
              <a:rPr sz="4000"/>
            </a:b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Manda esto a 15 personas en los próximos 143 minutos, luego presiona F6 y el nombre de quien t ama aparecerá en letra grande, da tanto miedo por qué es real pero si rompes esta cadena serás castigado con problemas en sus próximas relaciones de por vida copia y pégalo ..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059280" y="1700280"/>
            <a:ext cx="263196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09T02:23:35Z</dcterms:created>
  <dc:creator>Said</dc:creator>
  <dc:description/>
  <dc:language>en-US</dc:language>
  <cp:lastModifiedBy>Angelica Morales (YAM0047 - INMEX-KCB3WTD)</cp:lastModifiedBy>
  <dcterms:modified xsi:type="dcterms:W3CDTF">2006-01-23T17:11:28Z</dcterms:modified>
  <cp:revision>1</cp:revision>
  <dc:subject/>
  <dc:title>Empieza por hacer lo necesario, luego lo que es posible... y de pronto estarás haciendo lo imposible" Una vez que envíes el mensaje aprieta F6 y veras lo que te aparece....insólito pero cierto.....da miedo pero es cierto....suerte.                                                                                                                                     Manda esto a 15 personas en los próximos 143 minutos, luego presiona F6 y el nombre de quien t ama aparecerá en letra grande, da tanto miedo por qué es real pero si rompes esta cadena serás castigado con problemas en sus próximas relaciones de por vida copia y pégalo .. </dc:title>
</cp:coreProperties>
</file>