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938-FA76-41A2-9BE2-936F10AF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13E1-64E1-4229-9084-2F3E5FAC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2D8-8B3D-49D5-B951-1F9CD7E1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EB1-34EA-4E21-83AE-8DA72C7D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F217-FB80-4F60-BECB-8A4CCCF6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5DDF-49A7-4217-B148-27375441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561-634A-4EFB-8CB1-447CC85D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A81-16E2-4A5A-BE10-54756B5A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7DD-4C08-4B74-A517-9DD562D2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96D-4F6E-40C8-B657-63CCE93D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BE3-E371-470E-9E18-4E426633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BF5A-4C17-4586-8E42-D93CC741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469E-2183-4ADF-9A56-5F73F53ECC7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pezMurphy001revistatropasusa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5638680"/>
            <a:ext cx="7619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¿Quien pensaría de estas personas? limpia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pulcras, con familias, siendo unos buenos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esposos, excelentes padres, buenos amigo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ciudadanos ejemplares en E U A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buso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ninoiraq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oldadospolac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orturas" descr=""/>
          <p:cNvPicPr/>
          <p:nvPr/>
        </p:nvPicPr>
        <p:blipFill>
          <a:blip r:embed="rId1"/>
          <a:stretch/>
        </p:blipFill>
        <p:spPr>
          <a:xfrm>
            <a:off x="838080" y="6480"/>
            <a:ext cx="73152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ortura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orturas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orturas12" descr=""/>
          <p:cNvPicPr/>
          <p:nvPr/>
        </p:nvPicPr>
        <p:blipFill>
          <a:blip r:embed="rId1"/>
          <a:stretch/>
        </p:blipFill>
        <p:spPr>
          <a:xfrm>
            <a:off x="228600" y="90360"/>
            <a:ext cx="89154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orturas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orturas14" descr=""/>
          <p:cNvPicPr/>
          <p:nvPr/>
        </p:nvPicPr>
        <p:blipFill>
          <a:blip r:embed="rId1"/>
          <a:stretch/>
        </p:blipFill>
        <p:spPr>
          <a:xfrm>
            <a:off x="0" y="343080"/>
            <a:ext cx="4651200" cy="6172200"/>
          </a:xfrm>
          <a:prstGeom prst="rect">
            <a:avLst/>
          </a:prstGeom>
          <a:ln w="0">
            <a:noFill/>
          </a:ln>
        </p:spPr>
      </p:pic>
      <p:pic>
        <p:nvPicPr>
          <p:cNvPr id="65" name="torturas18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7592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orturas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orturas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14400" y="5562720"/>
            <a:ext cx="8229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Y siendo unos de los paises del primer mundo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una de las potencias mundiales mas podererosa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teniendo en su país las Universisdades mas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prestigiadas....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orturas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orturas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orturas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ortura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orturas3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orturas4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orturas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orturas6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orturas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orturas9" descr=""/>
          <p:cNvPicPr/>
          <p:nvPr/>
        </p:nvPicPr>
        <p:blipFill>
          <a:blip r:embed="rId1"/>
          <a:stretch/>
        </p:blipFill>
        <p:spPr>
          <a:xfrm>
            <a:off x="1851120" y="0"/>
            <a:ext cx="544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srest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5029200"/>
            <a:ext cx="8381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y contando con la preparación intelectual que tienen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contando con genios en las diferentes ramas Física, Química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Matemáticas, Astronomía, Medicína, etc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orturasDetenidos01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70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orturasDetenidos03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orturasDetenidos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orture10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ushpav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28600" y="3429000"/>
            <a:ext cx="8458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pero eso si despues de haber demostrado al mundo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entero y a los habitantes del Medio Oriente de 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su poderío, celebran el día de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"acción de gracias"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2copi" descr=""/>
          <p:cNvPicPr/>
          <p:nvPr/>
        </p:nvPicPr>
        <p:blipFill>
          <a:blip r:embed="rId1"/>
          <a:stretch/>
        </p:blipFill>
        <p:spPr>
          <a:xfrm>
            <a:off x="609480" y="-19080"/>
            <a:ext cx="7848720" cy="6877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838080" y="457200"/>
            <a:ext cx="7543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¿Gracias, gracias de que, de sus violaciones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y abusos?....¿para que cuando lleguen a su 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País, los vean como héroes?, ...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95280" y="228600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¿Para que cuando lleguen a sus casas,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los vean como esposos, padres, amigos y 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vecinos ejemplares?....Aunque para mucha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gente ya se le olvidó, todo esto queda marcado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para la historia,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95280" y="5638680"/>
            <a:ext cx="7086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y eso depende de tí, que borres este e-mail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o lo compartas con tus contactos, para que nos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demos cuenta de lo que es capaz el Ser Humano,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n tal de demostrar ¡¡PODER!!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0463_g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28600" y="5486400"/>
            <a:ext cx="8572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lementos de sus fuezas armadas se hayan comportado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mo unas verdaderas bestias, como unos neandertales,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metiendo un sin fin de abusos y violaciones a los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derechos civiles,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0441_g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28600" y="5715000"/>
            <a:ext cx="8534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de los civiles y violando el tratado de Gibraltar;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las imagenes que veras son fuertes no aptas para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personas susceptibles...solo tu puedes ser el Juéz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nternacionales-20050130-03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torturas11" descr=""/>
          <p:cNvPicPr/>
          <p:nvPr/>
        </p:nvPicPr>
        <p:blipFill>
          <a:blip r:embed="rId2"/>
          <a:stretch/>
        </p:blipFill>
        <p:spPr>
          <a:xfrm>
            <a:off x="4529160" y="0"/>
            <a:ext cx="461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ninairaqu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raque-Prisiomeiro%2520e%2520Pa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hijosdeSadda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7:46:02Z</dcterms:created>
  <dc:creator>SEP</dc:creator>
  <dc:description/>
  <dc:language>en-US</dc:language>
  <cp:lastModifiedBy>Reyna Soto</cp:lastModifiedBy>
  <dcterms:modified xsi:type="dcterms:W3CDTF">2006-03-03T21:42:54Z</dcterms:modified>
  <cp:revision>3</cp:revision>
  <dc:subject/>
  <dc:title>Presentación de PowerPoint</dc:title>
</cp:coreProperties>
</file>