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7A5F-77E3-48F0-8750-C55C65C9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B273-5E20-45B2-883E-83DCF591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306C-43EB-45BE-ABE0-4CFC8442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B08A-7D9A-470F-9FC1-4E4B73E3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63A3-3141-465F-8CA1-C648F066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91AA-58C6-491F-A03D-52A77B48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CFBE-C471-44CD-9472-D06B801C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CD7A-6F8F-487D-9E96-FE569621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B47F-EBE4-4E99-AAD2-8B4F1F97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BD87-DB84-4D6D-BE71-DB6A791A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4E2E-91D3-421C-B757-2D84FC22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87F5-50F3-47F7-AA5C-62FFFB48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6426-B991-4BC8-9E89-5C93D318C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916360" y="1628640"/>
          <a:ext cx="324000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1628640"/>
                    <a:ext cx="3240000" cy="22860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221000"/>
            <a:ext cx="82090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NO SOMOS DOGMÁTICOS; es la realidad; son las relaciones sociales las que determinan y condicionan las categorías con las que las interpretamos, y no al revé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60280"/>
            <a:ext cx="8604360" cy="86256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s-CL" sz="2000" spc="-1" strike="noStrike">
                <a:solidFill>
                  <a:srgbClr val="ff0000"/>
                </a:solidFill>
                <a:latin typeface="Arial"/>
              </a:rPr>
              <a:t>Marxismo-Leninism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sigue vigente como Teoría Revolucio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799308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SOMOS VOLUNTARISTAS,  ni actuamos sin los lineamientos ideológicos que nos orienten a ser certero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595008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0160000">
            <a:off x="250920" y="188640"/>
            <a:ext cx="34272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2400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259920"/>
            <a:ext cx="7920000" cy="6264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 el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UEBLO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como Fuerza Principal Político-Milit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reando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CONCIENCI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Revolucion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con el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FUSI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como guía de la luch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stórica y const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 LA RAZON Y LA FUERZA, LOS TRABAJADORES AL P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ÓLO PODEMOS LA VÍA REVOLUCION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ATE  O MU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0160000">
            <a:off x="179280" y="25992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0160000">
            <a:off x="7758000" y="5483160"/>
            <a:ext cx="1152720" cy="8794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over dir="u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2000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259920"/>
            <a:ext cx="7920000" cy="6264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Un fraternal Saludo Revolucionario a todos los combatientes del mun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todos los Compañeros perseguid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los Combatientes prisioneros de cuerpo, pero libres en dig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los que resisten la ofensiva imperial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los que no se detienen por mezquinos intereses particula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todos los que pueden seguir de pie con la frente en al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los que siguen con justeza haciendo camin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0160000">
            <a:off x="179280" y="25992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20160000">
            <a:off x="7758000" y="5483160"/>
            <a:ext cx="1152720" cy="8794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over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20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20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26920" y="1052640"/>
          <a:ext cx="7115400" cy="5105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052640"/>
                    <a:ext cx="71154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cover dir="u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84720" y="1989000"/>
            <a:ext cx="2579760" cy="2735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20160000">
            <a:off x="395280" y="620280"/>
            <a:ext cx="495360" cy="3938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404640"/>
            <a:ext cx="8244000" cy="8254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IGUIENDO LAS HUELLAS DE NUESTROS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PUEBLOS INDO-AMERIC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852640"/>
            <a:ext cx="3168720" cy="192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orque la primera batalla que se dio contra el capitalismo venido a nuestra América fue con toda la valentía, rebeldía y fuer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5589720"/>
            <a:ext cx="748836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Y porque  el grito de guerra dado hace más de 500 años, sigue vivo con la misma justeza que nuestra historia cono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89000"/>
            <a:ext cx="104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cover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635280" y="2349360"/>
            <a:ext cx="1944720" cy="2087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20160000">
            <a:off x="395280" y="33300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7680" y="763920"/>
            <a:ext cx="8103960" cy="45972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una visión Estratégica de l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ucha Latinoamerican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2060640"/>
            <a:ext cx="2880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a continuidad del Ejército Libertad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91280" y="3645000"/>
            <a:ext cx="2952720" cy="192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 construir una sola fuerza, que golpee mas fuerte y duro, al enemigo invaso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5791320"/>
            <a:ext cx="590544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Y por la libertad de nuestra Indo-Améric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5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076720" y="2060640"/>
          <a:ext cx="2160720" cy="25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2060640"/>
                    <a:ext cx="216072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 rot="20160000">
            <a:off x="826920" y="54900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605160"/>
            <a:ext cx="648036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 POR EL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RNACIONALISMO PROLETARI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63640" y="5734080"/>
            <a:ext cx="828036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que la lucha antiimperialista es una estrategia que no la sacrificamos por ningún paso táctico que la arries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211640" y="1557360"/>
            <a:ext cx="1873080" cy="2376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rot="20160000">
            <a:off x="539640" y="47592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247680"/>
            <a:ext cx="8093160" cy="8254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ravés, de la unificación de la lucha, y de l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ordinación de  las Vanguar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797360"/>
            <a:ext cx="842472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Y porque en nuestro país, al igual que la necesidad de los pueblos explotados y oprimidos del mundo, no puede quedar entregado a una guerra encubierta, sin la convicción que es posible revertir y venc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050920" y="1341360"/>
            <a:ext cx="5473800" cy="5872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427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JERCITO POPULAR REVOLUCIONARIO</a:t>
            </a:r>
            <a:endParaRPr b="0" lang="en-US" sz="2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/>
          <p:nvPr/>
        </p:nvSpPr>
        <p:spPr>
          <a:xfrm rot="20160000">
            <a:off x="1763640" y="501300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496400">
            <a:off x="7308360" y="5013360"/>
            <a:ext cx="343080" cy="342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333360"/>
            <a:ext cx="8064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Por  eso creemos que u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19280" y="6021360"/>
            <a:ext cx="7200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Es un imperativo Estratégico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2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116000" y="-1251000"/>
            <a:ext cx="5829480" cy="5029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6288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ATALLON  CHILE</a:t>
            </a:r>
            <a:endParaRPr b="0" lang="en-US" sz="24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 rot="20160000">
            <a:off x="1116000" y="134100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496400">
            <a:off x="6803640" y="1052640"/>
            <a:ext cx="343080" cy="342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620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Y 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4797360"/>
            <a:ext cx="828036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uestro desarrollo Táctico para la UN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24000" y="1341360"/>
            <a:ext cx="3861000" cy="33116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419640" y="2708280"/>
            <a:ext cx="129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5300640"/>
            <a:ext cx="89643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 TODAS LAS FUERZAS DE LA HISTORIA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47628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Por eso, SEGUIMOS ADELA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cover dir="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116000" y="260280"/>
            <a:ext cx="6058080" cy="6953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427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JERCITO POPULAR REVOLUCIONARIO</a:t>
            </a:r>
            <a:endParaRPr b="0" lang="en-US" sz="2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58920" y="1628640"/>
            <a:ext cx="5829120" cy="5029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6288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ATALLON  CHILE</a:t>
            </a:r>
            <a:endParaRPr b="0" lang="en-US" sz="24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1916280"/>
            <a:ext cx="3429000" cy="27432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68360" y="4437000"/>
            <a:ext cx="914400" cy="1257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435640" y="4005360"/>
            <a:ext cx="914400" cy="123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3203640" y="549360"/>
          <a:ext cx="180000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49360"/>
                    <a:ext cx="180000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908000" y="1557360"/>
          <a:ext cx="102888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1557360"/>
                    <a:ext cx="10288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5219640" y="1628640"/>
            <a:ext cx="1143000" cy="1155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708360" y="2997360"/>
            <a:ext cx="1143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/>
          <p:nvPr/>
        </p:nvSpPr>
        <p:spPr>
          <a:xfrm rot="20160000">
            <a:off x="971640" y="4581000"/>
            <a:ext cx="34272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496400">
            <a:off x="6948000" y="4508640"/>
            <a:ext cx="343080" cy="342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4500"/>
                            </p:stCondLst>
                            <p:childTnLst>
                              <p:par>
                                <p:cTn id="1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1:12:37Z</dcterms:created>
  <dc:creator>wwww</dc:creator>
  <dc:description/>
  <dc:language>en-US</dc:language>
  <cp:lastModifiedBy>hh</cp:lastModifiedBy>
  <dcterms:modified xsi:type="dcterms:W3CDTF">2007-12-29T23:00:37Z</dcterms:modified>
  <cp:revision>20</cp:revision>
  <dc:subject/>
  <dc:title>Diapositiva 1</dc:title>
</cp:coreProperties>
</file>