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2FFD0-653F-4A22-B8F1-8B37B2ED573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FCA9A-0105-4D09-AC9C-6F21AA05ACC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46439-7BF9-4CA7-92C6-DB29F2A70E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179AFC-1D24-4099-BD8B-1D94AC383A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E0A726-2977-47CD-9D6C-3429C75400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CFD4D-0265-4D68-97A8-115C305CDF8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D610-27B4-4D16-8BAA-C8A800FBCE4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828CE0-75FA-4B0B-A185-3269F44060D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5A4A3-E929-441F-BCD1-A53AEFDA12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AAF66-262D-4D11-ABB5-5637149FD1F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DC9DE4-2F71-4FB6-89F1-DD01F95AE19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297CC-803C-4FF6-9B37-E8FDF6E2199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9D07F9-765B-41EF-916E-DA48730278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r-Latn-C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00E04-1C8C-434E-980A-9D584FAAD4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111CC-2AEF-4600-8112-B3D2C3E9B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9721C-998E-4A35-B812-2FCC2D0EAD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45FD5-E2E6-454F-9B19-E41FB4C445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9639F-34B2-4108-84AE-571024DFCC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89966-86FE-4637-B5FE-F2E7273F2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498EE-977E-44B5-889F-1D0C61FC0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996A9-ED1F-43FE-85D2-846406F442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AB6D4-E19E-450A-B84C-9990748053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1B3C8-E901-4475-91E3-5386ECD6A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0F25F-F9A4-4610-83B8-0B21EFA791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BB78C-8A64-4BDB-951D-3AAF72B45D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52DE6B-F37A-44FA-8A6E-B6A543ECBC5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office@canvasopedia.org" TargetMode="External"/><Relationship Id="rId2" Type="http://schemas.openxmlformats.org/officeDocument/2006/relationships/hyperlink" Target="http://www.canvasopedia.org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9"/>
          <p:cNvSpPr/>
          <p:nvPr/>
        </p:nvSpPr>
        <p:spPr>
          <a:xfrm>
            <a:off x="0" y="2373480"/>
            <a:ext cx="9144000" cy="31572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 Box 2"/>
          <p:cNvSpPr/>
          <p:nvPr/>
        </p:nvSpPr>
        <p:spPr>
          <a:xfrm>
            <a:off x="590400" y="2467080"/>
            <a:ext cx="7937640" cy="386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Centre for Applied NonViolent Conflict and Strateg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(CANVAS)  is non-profit, non-governmental international networ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iented to educational work related to strategic nonviolent conflic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ur mission is to reach widest possible international audience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in order to share experiences and learn more on Strategic nonviolent conflic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and examine related knowledge transfer Methods  for spread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is knowledge in the fut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Email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1"/>
              </a:rPr>
              <a:t>office@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Website: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 u="sng">
                <a:solidFill>
                  <a:srgbClr val="009999"/>
                </a:solidFill>
                <a:uFillTx/>
                <a:latin typeface="Gill Sans MT"/>
                <a:hlinkClick r:id="rId2"/>
              </a:rPr>
              <a:t>www.canvasopedia.or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Gill Sans MT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3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Text Box 4"/>
          <p:cNvSpPr/>
          <p:nvPr/>
        </p:nvSpPr>
        <p:spPr>
          <a:xfrm>
            <a:off x="2378160" y="111456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Gill Sans MT"/>
              </a:rPr>
              <a:t>CANVAS:</a:t>
            </a: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o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6"/>
          <p:cNvSpPr/>
          <p:nvPr/>
        </p:nvSpPr>
        <p:spPr>
          <a:xfrm>
            <a:off x="0" y="1467000"/>
            <a:ext cx="9144000" cy="430848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3600" y="6634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f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3" descr="piramida"/>
          <p:cNvPicPr/>
          <p:nvPr/>
        </p:nvPicPr>
        <p:blipFill>
          <a:blip r:embed="rId1"/>
          <a:stretch/>
        </p:blipFill>
        <p:spPr>
          <a:xfrm>
            <a:off x="866880" y="1533600"/>
            <a:ext cx="6943680" cy="4252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8"/>
          <p:cNvSpPr/>
          <p:nvPr/>
        </p:nvSpPr>
        <p:spPr>
          <a:xfrm>
            <a:off x="0" y="1600200"/>
            <a:ext cx="9144000" cy="419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069560" y="2374920"/>
            <a:ext cx="4894200" cy="3154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Curriculum on nonviolent struggle for activist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Complete Teacher`s book, Student`s book, Basic and Advanced cour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Handbook manual for activists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“Nonviolent struggle – 50 crucial points”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available in 5 languag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63080" indent="-163080">
              <a:lnSpc>
                <a:spcPct val="100000"/>
              </a:lnSpc>
              <a:spcBef>
                <a:spcPts val="451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hree – </a:t>
            </a: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Subject Master studies</a:t>
            </a: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 (Strategy, methods and tactics of nonviolent social change”) on Belgrade Universit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naslovna final1"/>
          <p:cNvPicPr/>
          <p:nvPr/>
        </p:nvPicPr>
        <p:blipFill>
          <a:blip r:embed="rId1"/>
          <a:stretch/>
        </p:blipFill>
        <p:spPr>
          <a:xfrm>
            <a:off x="6502320" y="1612800"/>
            <a:ext cx="1463760" cy="19814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6" name="Text Box 9"/>
          <p:cNvSpPr/>
          <p:nvPr/>
        </p:nvSpPr>
        <p:spPr>
          <a:xfrm>
            <a:off x="1028880" y="1663560"/>
            <a:ext cx="6933960" cy="64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Together with its partners and other internation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Gill Sans MT"/>
              </a:rPr>
              <a:t>organizations we have successfully develope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Picture 10" descr="naslovna"/>
          <p:cNvPicPr/>
          <p:nvPr/>
        </p:nvPicPr>
        <p:blipFill>
          <a:blip r:embed="rId2"/>
          <a:stretch/>
        </p:blipFill>
        <p:spPr>
          <a:xfrm>
            <a:off x="6473880" y="3803760"/>
            <a:ext cx="1484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98" name="Rectangle 12"/>
          <p:cNvSpPr/>
          <p:nvPr/>
        </p:nvSpPr>
        <p:spPr>
          <a:xfrm>
            <a:off x="791280" y="979560"/>
            <a:ext cx="7513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1" lang="sr-Latn-CS" sz="18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spreading and transfering knowled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6"/>
          <p:cNvSpPr/>
          <p:nvPr/>
        </p:nvSpPr>
        <p:spPr>
          <a:xfrm>
            <a:off x="0" y="1843200"/>
            <a:ext cx="9144000" cy="31017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7"/>
          <p:cNvSpPr/>
          <p:nvPr/>
        </p:nvSpPr>
        <p:spPr>
          <a:xfrm>
            <a:off x="2044800" y="2043000"/>
            <a:ext cx="2120760" cy="168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now-how on strategic non-violent struggle can be effectively transferr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 Box 8"/>
          <p:cNvSpPr/>
          <p:nvPr/>
        </p:nvSpPr>
        <p:spPr>
          <a:xfrm>
            <a:off x="5483160" y="2039760"/>
            <a:ext cx="255744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Every single group practicing strategic nonviolent action adds to knowledge and list of method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9"/>
          <p:cNvSpPr/>
          <p:nvPr/>
        </p:nvSpPr>
        <p:spPr>
          <a:xfrm>
            <a:off x="3807000" y="3759120"/>
            <a:ext cx="15382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evolutions cannot be exported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mporte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0"/>
          <p:cNvSpPr/>
          <p:nvPr/>
        </p:nvSpPr>
        <p:spPr>
          <a:xfrm>
            <a:off x="1419120" y="3765600"/>
            <a:ext cx="15382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Oppressors tend to learn as well!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1"/>
          <p:cNvSpPr/>
          <p:nvPr/>
        </p:nvSpPr>
        <p:spPr>
          <a:xfrm>
            <a:off x="6129360" y="3767040"/>
            <a:ext cx="25369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here is a rising interest and request for this type of knowledge transf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2"/>
          <p:cNvSpPr/>
          <p:nvPr/>
        </p:nvSpPr>
        <p:spPr>
          <a:xfrm>
            <a:off x="2328840" y="1122480"/>
            <a:ext cx="43927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BASIC CONCLUSI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14"/>
          <p:cNvSpPr/>
          <p:nvPr/>
        </p:nvSpPr>
        <p:spPr>
          <a:xfrm>
            <a:off x="1323720" y="185904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15"/>
          <p:cNvSpPr/>
          <p:nvPr/>
        </p:nvSpPr>
        <p:spPr>
          <a:xfrm>
            <a:off x="4722840" y="18493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16"/>
          <p:cNvSpPr/>
          <p:nvPr/>
        </p:nvSpPr>
        <p:spPr>
          <a:xfrm>
            <a:off x="74592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3103560" y="355752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18"/>
          <p:cNvSpPr/>
          <p:nvPr/>
        </p:nvSpPr>
        <p:spPr>
          <a:xfrm>
            <a:off x="5397480" y="3548160"/>
            <a:ext cx="746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7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"/>
          <p:cNvSpPr/>
          <p:nvPr/>
        </p:nvSpPr>
        <p:spPr>
          <a:xfrm>
            <a:off x="363600" y="1979640"/>
            <a:ext cx="415116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ols for disseminating this knowledge produced and distributed by international organizations (Albert Einstein Institutions, ICNC, CANVAS) tend to be distributed all over the world, and activists find a way to translate it and distribute it within countries, which results in rising interest for dissemination of this type of knowledge as well as number of requests for worksho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Systematic upgrade of tools as well as building international cohort of educators able to transfer this knowledge is an activity which can help non-violent movements worldwide in futur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879840" y="1030320"/>
            <a:ext cx="734508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SUMMARY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808080"/>
                </a:solidFill>
                <a:latin typeface="Gill Sans MT"/>
              </a:rPr>
              <a:t>Rising interest and request for this type of knowledge transf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4" name="Picture 4" descr="Nantes (26)"/>
          <p:cNvPicPr/>
          <p:nvPr/>
        </p:nvPicPr>
        <p:blipFill>
          <a:blip r:embed="rId1"/>
          <a:stretch/>
        </p:blipFill>
        <p:spPr>
          <a:xfrm>
            <a:off x="4781520" y="2390760"/>
            <a:ext cx="3747960" cy="2811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13"/>
          <p:cNvSpPr/>
          <p:nvPr/>
        </p:nvSpPr>
        <p:spPr>
          <a:xfrm>
            <a:off x="0" y="1147680"/>
            <a:ext cx="9144000" cy="44863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10" descr="IMG_3128"/>
          <p:cNvPicPr/>
          <p:nvPr/>
        </p:nvPicPr>
        <p:blipFill>
          <a:blip r:embed="rId1"/>
          <a:srcRect l="0" t="35832" r="4206" b="34272"/>
          <a:stretch/>
        </p:blipFill>
        <p:spPr>
          <a:xfrm>
            <a:off x="1146240" y="1162080"/>
            <a:ext cx="6778440" cy="15876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54" name="Rectangle 2"/>
          <p:cNvSpPr/>
          <p:nvPr/>
        </p:nvSpPr>
        <p:spPr>
          <a:xfrm>
            <a:off x="1125360" y="2697120"/>
            <a:ext cx="685800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om 2002-2009 CANVAS organized or participated in 106 workshops or conferences with more than 1800 participants coming from 59 different countries trying to empower non-violent movements or help international organizations to act in more efficient manne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its partners CANVAS has developed Curriculum for transferring knowledge on nonviolent struggle and has published two book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ogether with Belgrade University CANVAS has developed graduate studies on methods of Nonviolent social change, which has started in February 2008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21"/>
          <p:cNvSpPr/>
          <p:nvPr/>
        </p:nvSpPr>
        <p:spPr>
          <a:xfrm>
            <a:off x="0" y="2381400"/>
            <a:ext cx="9144000" cy="32526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 Box 3"/>
          <p:cNvSpPr/>
          <p:nvPr/>
        </p:nvSpPr>
        <p:spPr>
          <a:xfrm>
            <a:off x="3857760" y="5111640"/>
            <a:ext cx="3860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58920" indent="-35892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524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working day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 Box 4"/>
          <p:cNvSpPr/>
          <p:nvPr/>
        </p:nvSpPr>
        <p:spPr>
          <a:xfrm>
            <a:off x="3276720" y="1295280"/>
            <a:ext cx="18396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ext Box 5"/>
          <p:cNvSpPr/>
          <p:nvPr/>
        </p:nvSpPr>
        <p:spPr>
          <a:xfrm>
            <a:off x="1271520" y="1014480"/>
            <a:ext cx="6600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EXAMPLE CANVAS ACTIVITIES 2007-20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Text Box 6"/>
          <p:cNvSpPr/>
          <p:nvPr/>
        </p:nvSpPr>
        <p:spPr>
          <a:xfrm>
            <a:off x="2570040" y="1528920"/>
            <a:ext cx="3886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808080"/>
                </a:solidFill>
                <a:latin typeface="Gill Sans MT"/>
              </a:rPr>
              <a:t>Where we are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3" descr=""/>
          <p:cNvPicPr/>
          <p:nvPr/>
        </p:nvPicPr>
        <p:blipFill>
          <a:blip r:embed="rId1"/>
          <a:stretch/>
        </p:blipFill>
        <p:spPr>
          <a:xfrm>
            <a:off x="1069920" y="3236760"/>
            <a:ext cx="2739960" cy="2387880"/>
          </a:xfrm>
          <a:prstGeom prst="rect">
            <a:avLst/>
          </a:prstGeom>
          <a:ln w="0">
            <a:noFill/>
          </a:ln>
        </p:spPr>
      </p:pic>
      <p:sp>
        <p:nvSpPr>
          <p:cNvPr id="61" name="Rectangle 15"/>
          <p:cNvSpPr/>
          <p:nvPr/>
        </p:nvSpPr>
        <p:spPr>
          <a:xfrm>
            <a:off x="1405080" y="2600280"/>
            <a:ext cx="705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536400" indent="-5364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808080"/>
                </a:solidFill>
                <a:latin typeface="Gill Sans MT"/>
              </a:rPr>
              <a:t>In 2007-2010  CANVAS has  organized or participated in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7"/>
          <p:cNvSpPr/>
          <p:nvPr/>
        </p:nvSpPr>
        <p:spPr>
          <a:xfrm>
            <a:off x="3800520" y="3340080"/>
            <a:ext cx="3444840" cy="113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2800" indent="-4428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62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 workshops, transferring knowledge  to groups fro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19"/>
          <p:cNvSpPr/>
          <p:nvPr/>
        </p:nvSpPr>
        <p:spPr>
          <a:xfrm>
            <a:off x="4239000" y="4359240"/>
            <a:ext cx="3344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3300"/>
                </a:solidFill>
                <a:latin typeface="Gill Sans MT"/>
              </a:rPr>
              <a:t>46</a:t>
            </a:r>
            <a:r>
              <a:rPr b="0" lang="en-US" sz="2400" spc="-1" strike="noStrike">
                <a:solidFill>
                  <a:srgbClr val="000000"/>
                </a:solidFill>
                <a:latin typeface="Gill Sans MT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Gill Sans MT"/>
              </a:rPr>
              <a:t>countries with total o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2" descr="mapa kontinenti"/>
          <p:cNvPicPr/>
          <p:nvPr/>
        </p:nvPicPr>
        <p:blipFill>
          <a:blip r:embed="rId1"/>
          <a:stretch/>
        </p:blipFill>
        <p:spPr>
          <a:xfrm>
            <a:off x="581040" y="1569960"/>
            <a:ext cx="6932520" cy="4076640"/>
          </a:xfrm>
          <a:prstGeom prst="rect">
            <a:avLst/>
          </a:prstGeom>
          <a:ln w="0">
            <a:noFill/>
          </a:ln>
        </p:spPr>
      </p:pic>
      <p:sp>
        <p:nvSpPr>
          <p:cNvPr id="65" name="Rectangle 12"/>
          <p:cNvSpPr/>
          <p:nvPr/>
        </p:nvSpPr>
        <p:spPr>
          <a:xfrm>
            <a:off x="433440" y="1055520"/>
            <a:ext cx="8078760" cy="4835520"/>
          </a:xfrm>
          <a:prstGeom prst="rect">
            <a:avLst/>
          </a:prstGeom>
          <a:solidFill>
            <a:srgbClr val="ffffff">
              <a:alpha val="6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3"/>
          <p:cNvSpPr/>
          <p:nvPr/>
        </p:nvSpPr>
        <p:spPr>
          <a:xfrm>
            <a:off x="533520" y="1109520"/>
            <a:ext cx="1608120" cy="720720"/>
          </a:xfrm>
          <a:prstGeom prst="rect">
            <a:avLst/>
          </a:prstGeom>
          <a:solidFill>
            <a:srgbClr val="ff9933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NOR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USA (2006,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5"/>
          <p:cNvSpPr/>
          <p:nvPr/>
        </p:nvSpPr>
        <p:spPr>
          <a:xfrm>
            <a:off x="6181560" y="4978440"/>
            <a:ext cx="2133720" cy="641520"/>
          </a:xfrm>
          <a:prstGeom prst="rect">
            <a:avLst/>
          </a:prstGeom>
          <a:solidFill>
            <a:srgbClr val="6699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USTRALIA&amp;OCEANI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West Papua, Fiji, Tong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6"/>
          <p:cNvSpPr/>
          <p:nvPr/>
        </p:nvSpPr>
        <p:spPr>
          <a:xfrm>
            <a:off x="3438360" y="1058760"/>
            <a:ext cx="1857600" cy="1554120"/>
          </a:xfrm>
          <a:prstGeom prst="rect">
            <a:avLst/>
          </a:prstGeom>
          <a:solidFill>
            <a:srgbClr val="0099cc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EUROPE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kraine (2002) 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elarus (2002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 2006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Georgia (2003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Turkey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Ireland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pai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"/>
          <p:cNvSpPr/>
          <p:nvPr/>
        </p:nvSpPr>
        <p:spPr>
          <a:xfrm>
            <a:off x="6566040" y="1405080"/>
            <a:ext cx="1973160" cy="2831760"/>
          </a:xfrm>
          <a:prstGeom prst="rect">
            <a:avLst/>
          </a:prstGeom>
          <a:solidFill>
            <a:srgbClr val="009999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SIA / MIDDLE EAS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Azerbaijan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ebanon (2004, 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North Kore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n (2005,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Palestine  (2004,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Uzbekistan 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azakhstan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Kyrgyzstan (2006)</a:t>
            </a:r>
            <a:br>
              <a:rPr sz="1200"/>
            </a:b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Maldives (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Vietnam (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Jordan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gypt (2007,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Syria (2007, 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raq (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8"/>
          <p:cNvSpPr/>
          <p:nvPr/>
        </p:nvSpPr>
        <p:spPr>
          <a:xfrm>
            <a:off x="847800" y="4457880"/>
            <a:ext cx="1600200" cy="1189080"/>
          </a:xfrm>
          <a:prstGeom prst="rect">
            <a:avLst/>
          </a:prstGeom>
          <a:solidFill>
            <a:srgbClr val="ff33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ffffff"/>
                </a:solidFill>
                <a:latin typeface="Gill Sans MT"/>
              </a:rPr>
              <a:t>SOUTH AME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olombia (2004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Venezuel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ffffff"/>
                </a:solidFill>
                <a:latin typeface="Gill Sans MT"/>
              </a:rPr>
              <a:t>Cuba (2005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uatemal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Bolivia (2008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11"/>
          <p:cNvSpPr/>
          <p:nvPr/>
        </p:nvSpPr>
        <p:spPr>
          <a:xfrm>
            <a:off x="3587760" y="3978360"/>
            <a:ext cx="1838160" cy="1919160"/>
          </a:xfrm>
          <a:prstGeom prst="rect">
            <a:avLst/>
          </a:prstGeom>
          <a:solidFill>
            <a:srgbClr val="99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Gill Sans MT"/>
              </a:rPr>
              <a:t>AFR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Zimbabwe (2002,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2003, 2006</a:t>
            </a: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, 2007</a:t>
            </a: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-2009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Eritrea (2006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Siera Leone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Lib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ill Sans MT"/>
              </a:rPr>
              <a:t>Ivory coast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West Sahar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Nigeri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r-Latn-CS" sz="1200" spc="-1" strike="noStrike">
                <a:solidFill>
                  <a:srgbClr val="ffffff"/>
                </a:solidFill>
                <a:latin typeface="Gill Sans MT"/>
              </a:rPr>
              <a:t>Ghana (2007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8"/>
          <p:cNvSpPr/>
          <p:nvPr/>
        </p:nvSpPr>
        <p:spPr>
          <a:xfrm>
            <a:off x="0" y="1730520"/>
            <a:ext cx="9144000" cy="37796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Rectangle 2"/>
          <p:cNvSpPr/>
          <p:nvPr/>
        </p:nvSpPr>
        <p:spPr>
          <a:xfrm>
            <a:off x="609480" y="1866960"/>
            <a:ext cx="5415120" cy="37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GEORGIA, 2003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to “Kmara” movement which has launched “Revolution of Roses” and replaced Kuchma. Shakkashvilli sworn presid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UKRAINE:, 2004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Knowledge transfer and trainings for “PORA” movement who was a leading engine of “Orange Revolution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LEBANON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Training initial groups who has performed “Ceddar Revolution” in 2004, launching million-people sit in after Harriri’s assassination with the effect of Syrian troops leaving Lebanon after 35 years of conflic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MALDIVES: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ctober 2008 Electoral victory of MDP and its democratic allies against dictator Gayoom. Mohamed Rasheed Anni elected as first democratic president of this tiny and 100% Muslim country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4" descr="23B-natt"/>
          <p:cNvPicPr/>
          <p:nvPr/>
        </p:nvPicPr>
        <p:blipFill>
          <a:blip r:embed="rId1"/>
          <a:stretch/>
        </p:blipFill>
        <p:spPr>
          <a:xfrm>
            <a:off x="6154560" y="1752480"/>
            <a:ext cx="2819520" cy="163692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pic>
        <p:nvPicPr>
          <p:cNvPr id="75" name="Picture 5" descr="ukraine"/>
          <p:cNvPicPr/>
          <p:nvPr/>
        </p:nvPicPr>
        <p:blipFill>
          <a:blip r:embed="rId2"/>
          <a:stretch/>
        </p:blipFill>
        <p:spPr>
          <a:xfrm>
            <a:off x="6154560" y="3571920"/>
            <a:ext cx="2819520" cy="193500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  <p:sp>
        <p:nvSpPr>
          <p:cNvPr id="76" name="Rectangle 9"/>
          <p:cNvSpPr/>
          <p:nvPr/>
        </p:nvSpPr>
        <p:spPr>
          <a:xfrm>
            <a:off x="2747520" y="1054080"/>
            <a:ext cx="3501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success lis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Rectangle 25"/>
          <p:cNvSpPr/>
          <p:nvPr/>
        </p:nvSpPr>
        <p:spPr>
          <a:xfrm>
            <a:off x="0" y="1581120"/>
            <a:ext cx="9144000" cy="432612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2"/>
          <p:cNvSpPr/>
          <p:nvPr/>
        </p:nvSpPr>
        <p:spPr>
          <a:xfrm>
            <a:off x="1600200" y="987480"/>
            <a:ext cx="5867280" cy="532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9280" indent="-1792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– key ongoing referenc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1. ZIMBABW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with coalition of opposition and NGO secto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2. BOLIVIA, VENEZUELA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successful preparation of 2008 GOTV and “NO” referendum campaign and forthcoming 2009. elections with groups from Santa Cruz. Official statements of president Chavez pointing “OTPOR as main troublemakers in Venezuela”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3. BELARUS-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Ongoing program with student groups and NGO`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4. BURMA, VIETNAM TIBE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trainings with activists from inside countries, including meetings with Central Tibetan Administration and Dalai La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6600"/>
                </a:solidFill>
                <a:latin typeface="Gill Sans MT"/>
              </a:rPr>
              <a:t>5. MIDDLE EAST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ongoing projects in Syria and Iraq, consultation with Iran pro-democracy group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26" descr="niz  cb"/>
          <p:cNvPicPr/>
          <p:nvPr/>
        </p:nvPicPr>
        <p:blipFill>
          <a:blip r:embed="rId1"/>
          <a:stretch/>
        </p:blipFill>
        <p:spPr>
          <a:xfrm>
            <a:off x="0" y="1589040"/>
            <a:ext cx="9144000" cy="115740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Rectangle 15"/>
          <p:cNvSpPr/>
          <p:nvPr/>
        </p:nvSpPr>
        <p:spPr>
          <a:xfrm>
            <a:off x="0" y="1949400"/>
            <a:ext cx="9144000" cy="378936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2"/>
          <p:cNvSpPr/>
          <p:nvPr/>
        </p:nvSpPr>
        <p:spPr>
          <a:xfrm>
            <a:off x="1414440" y="2171880"/>
            <a:ext cx="624852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Freedom hou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Republican Institute (IR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United States institute for Peace (USIP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Albert Einstein Institu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International centre on Nonviolent Conflict (ICNC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TUFT (Fletcher School of Law and Diplomacy), Boston, 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Colorado College (C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Grinnell College (IO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Rutgers College (NJ, NY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Kings College (London, UK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Belgrade Faculty of Political Scienc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6"/>
          <p:cNvSpPr/>
          <p:nvPr/>
        </p:nvSpPr>
        <p:spPr>
          <a:xfrm>
            <a:off x="1387080" y="1082520"/>
            <a:ext cx="62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- Cooperation and Partnership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Rectangle 100"/>
          <p:cNvSpPr/>
          <p:nvPr/>
        </p:nvSpPr>
        <p:spPr>
          <a:xfrm>
            <a:off x="0" y="1760400"/>
            <a:ext cx="9144000" cy="356400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05040" y="817560"/>
            <a:ext cx="7315200" cy="868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CANVAS Target audiences</a:t>
            </a:r>
            <a:r>
              <a:rPr b="0" lang="sr-Latn-C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5" name=""/>
          <p:cNvGraphicFramePr/>
          <p:nvPr/>
        </p:nvGraphicFramePr>
        <p:xfrm>
          <a:off x="1508040" y="1781280"/>
          <a:ext cx="6096240" cy="3541680"/>
        </p:xfrm>
        <a:graphic>
          <a:graphicData uri="http://schemas.openxmlformats.org/drawingml/2006/table">
            <a:tbl>
              <a:tblPr/>
              <a:tblGrid>
                <a:gridCol w="2594160"/>
                <a:gridCol w="3502080"/>
              </a:tblGrid>
              <a:tr h="4143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GROU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WE WANT THEM 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cc3300"/>
                    </a:solidFill>
                  </a:tcPr>
                </a:tc>
              </a:tr>
              <a:tr h="67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NVS VETERA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FROM COUNT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Become part of our educatonal network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PRO/DEMOCRACY GROUPS FROM THE REG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Discover part of our snvc and express interest for learning mor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2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CADEMIC SOCIET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MEDI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Learn about snvc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  <a:tr h="811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INTERNATIONAL ORGANIZATION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Help us spread our message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ffff"/>
                          </a:solidFill>
                          <a:latin typeface="Gill Sans MT"/>
                        </a:rPr>
                        <a:t>And educate target audience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808080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6"/>
          <p:cNvSpPr/>
          <p:nvPr/>
        </p:nvSpPr>
        <p:spPr>
          <a:xfrm>
            <a:off x="0" y="1771560"/>
            <a:ext cx="9144000" cy="3930840"/>
          </a:xfrm>
          <a:prstGeom prst="rect">
            <a:avLst/>
          </a:prstGeom>
          <a:solidFill>
            <a:srgbClr val="ddddd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METHODS </a:t>
            </a:r>
            <a:r>
              <a:rPr b="1" lang="en-US" sz="2400" spc="-1" strike="noStrike">
                <a:solidFill>
                  <a:srgbClr val="808080"/>
                </a:solidFill>
                <a:latin typeface="Gill Sans MT"/>
              </a:rPr>
              <a:t> </a:t>
            </a:r>
            <a:r>
              <a:rPr b="1" lang="sr-Latn-CS" sz="2400" spc="-1" strike="noStrike">
                <a:solidFill>
                  <a:srgbClr val="808080"/>
                </a:solidFill>
                <a:latin typeface="Gill Sans MT"/>
              </a:rPr>
              <a:t>for knowledge transf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30848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Workshops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Tool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existing tools, curriculum and reference list of books and articles, A Force More Powerful video game, movies and DVD’s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r-Latn-CS" sz="1600" spc="-1" strike="noStrike">
                <a:solidFill>
                  <a:srgbClr val="808080"/>
                </a:solidFill>
                <a:latin typeface="Gill Sans MT"/>
              </a:rPr>
              <a:t>International Network</a:t>
            </a: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 of trainers and consultants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(7 trainers from Serbia, 3 from Georgia, 2 from Lebanon, 1 from Philippines and one from South Africa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-179280">
              <a:lnSpc>
                <a:spcPct val="80000"/>
              </a:lnSpc>
              <a:spcBef>
                <a:spcPts val="400"/>
              </a:spcBef>
              <a:buClr>
                <a:srgbClr val="808080"/>
              </a:buClr>
              <a:buFont typeface="Gill Sans M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808080"/>
                </a:solidFill>
                <a:latin typeface="Gill Sans MT"/>
              </a:rPr>
              <a:t>Educational content upgrade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–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1792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   </a:t>
            </a:r>
            <a:r>
              <a:rPr b="0" lang="en-US" sz="1600" spc="-1" strike="noStrike">
                <a:solidFill>
                  <a:srgbClr val="808080"/>
                </a:solidFill>
                <a:latin typeface="Gill Sans MT"/>
              </a:rPr>
              <a:t>New modules, University course, Specialized cours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1" descr="IMG_3162"/>
          <p:cNvPicPr/>
          <p:nvPr/>
        </p:nvPicPr>
        <p:blipFill>
          <a:blip r:embed="rId1"/>
          <a:stretch/>
        </p:blipFill>
        <p:spPr>
          <a:xfrm>
            <a:off x="4822920" y="2112840"/>
            <a:ext cx="3968640" cy="297684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6-14T18:14:19Z</dcterms:created>
  <dc:creator>Srdja</dc:creator>
  <dc:description/>
  <dc:language>en-US</dc:language>
  <cp:lastModifiedBy>Owner</cp:lastModifiedBy>
  <dcterms:modified xsi:type="dcterms:W3CDTF">2010-05-09T21:06:56Z</dcterms:modified>
  <cp:revision>30</cp:revision>
  <dc:subject/>
  <dc:title>Slide 1</dc:title>
</cp:coreProperties>
</file>