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Track09.wav" ContentType="audio/x-wav"/>
  <Override PartName="/ppt/media/image13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C69B-9C61-4265-9F83-939B3346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B28F-6047-41BA-9B7F-F76F04E2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F0AF6-7CCE-4295-97BD-AAFE30E8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3FB8-0C5A-4AB9-8DAE-7287F215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DF14-0CFC-4CBD-A24C-CE7F9C96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1E6C-1241-4133-AF30-4BBE75E4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8491-9B9A-461A-B92E-D4CB2295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02F9-328F-45DF-BA0E-23DD1576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266C-2341-4B60-94B1-F061B1C7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B38D-5BF1-4BF0-BE00-C66EBBE3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CC45-ED98-4166-A24D-45D7BB49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D0B8-4BD5-446A-83A8-C759D87C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E7E7-3C7B-429F-BA84-DAFE0A2E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116F-763D-49C6-B0E8-62A56253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8D00-E5C6-431E-96E6-1532E1A0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F952-17FA-4BBE-89B7-B3F68156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FEF5-D596-4926-8B9B-B4ADA6FC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CF1FD-C278-4713-AC43-20B631F5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CE801-2DD6-4823-9AC9-3392C956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268C7-E6C7-4A53-A6F1-1FC6FE60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2EDE4-4B15-41E3-8F18-40FC03E2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12E89-1806-441E-B4B1-09E54D13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C16B-C627-4278-BE3F-7C1A360B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D2A8-07ED-4BDE-AD13-772496CD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E0472-D441-412B-B7E2-3FE7F681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EADA0-77E5-4362-96BE-1337EFC4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09692-003C-4034-A3F0-55E9EEBF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44D11-D537-48AB-B3EF-8242C238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47B76-41C2-47FB-BB3A-1A940B6D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551E4-38F4-45B9-94F9-2D485D18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CF7C-25FD-415A-BE2E-745EF6B4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7A3F-0CF5-40AC-B0AA-E9E607B7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6E11-5B84-477C-B6A5-526AB598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578E-BAD2-4D9B-BF9A-24CC3600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DC8C4-5502-45D1-9EB6-07386C90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9D37-5D3C-4F2E-B8B5-007D2AC5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EC5C-2100-4C6C-A7B4-2436A501EC4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A63E-B936-4EA7-A8A4-F91EDF56E10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04E1-A1D5-4A06-8FD3-6386CBE44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rack09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2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26920" y="54936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Lucida Calligraphy"/>
              </a:rPr>
              <a:t>Mensaje de Navida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545080" cy="5310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462840" y="64198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Lucida Calligraphy"/>
              </a:rPr>
              <a:t>Sonido - m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wheel spokes="1"/>
    <p:sndAc>
      <p:stSnd>
        <p:snd r:embed="rId2" name="Track0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100"/>
                            </p:stCondLst>
                            <p:childTnLst>
                              <p:par>
                                <p:cTn id="1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200"/>
                            </p:stCondLst>
                            <p:childTnLst>
                              <p:par>
                                <p:cTn id="2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4,-86,-14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4,-86,-14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300"/>
                            </p:stCondLst>
                            <p:childTnLst>
                              <p:par>
                                <p:cTn id="26" nodeType="after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3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1773360"/>
            <a:ext cx="27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tristeza, alégrate.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Gozo.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3141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1557360"/>
            <a:ext cx="295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enemigos, reconcíliate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Paz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amigos, búscalos.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Encuent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259272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Feliz Navidad!"/>
          <p:cNvPicPr/>
          <p:nvPr/>
        </p:nvPicPr>
        <p:blipFill>
          <a:blip r:embed="rId3"/>
          <a:stretch/>
        </p:blipFill>
        <p:spPr>
          <a:xfrm>
            <a:off x="179280" y="18900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Feliz Navidad!"/>
          <p:cNvPicPr/>
          <p:nvPr/>
        </p:nvPicPr>
        <p:blipFill>
          <a:blip r:embed="rId4"/>
          <a:stretch/>
        </p:blipFill>
        <p:spPr>
          <a:xfrm>
            <a:off x="7812000" y="189000"/>
            <a:ext cx="1141560" cy="1100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332000" y="5157720"/>
            <a:ext cx="333360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60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989000"/>
            <a:ext cx="230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Si tienes a tus padres a tu lado, ayúdalos.</a:t>
            </a:r>
            <a:br>
              <a:rPr sz="2000"/>
            </a:b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La Navidad es D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3068640"/>
            <a:ext cx="2879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Si tienes tiniebl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enciende tu lámpara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La Navidad es Luz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3167280" cy="3167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Feliz Navidad!!!"/>
          <p:cNvPicPr/>
          <p:nvPr/>
        </p:nvPicPr>
        <p:blipFill>
          <a:blip r:embed="rId3"/>
          <a:stretch/>
        </p:blipFill>
        <p:spPr>
          <a:xfrm>
            <a:off x="250920" y="260280"/>
            <a:ext cx="1077840" cy="1297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Feliz Navidad!!!"/>
          <p:cNvPicPr/>
          <p:nvPr/>
        </p:nvPicPr>
        <p:blipFill>
          <a:blip r:embed="rId4"/>
          <a:stretch/>
        </p:blipFill>
        <p:spPr>
          <a:xfrm>
            <a:off x="7885080" y="189000"/>
            <a:ext cx="1074600" cy="1295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467240" y="3381480"/>
            <a:ext cx="209520" cy="95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1319400" cy="80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1628640"/>
            <a:ext cx="280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soberbia, sepúltala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Humildad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deudas, págalas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Justicia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errores, reflexiona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Verdad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24360" y="2060640"/>
            <a:ext cx="2376360" cy="217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12960" cy="3527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79280" y="5877000"/>
            <a:ext cx="1319400" cy="801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35640" y="260280"/>
            <a:ext cx="27367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Si tienes pecados, conviértete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La Navidad es Gracia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Si tienes odio, olvídalo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La Navidad es Amor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FELIZ NAVIDAD Y MUCHO AMOR</a:t>
            </a:r>
            <a:r>
              <a:rPr b="1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95640" y="3860640"/>
            <a:ext cx="1057320" cy="1095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987640" y="3141720"/>
            <a:ext cx="990720" cy="115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763640" y="3357720"/>
            <a:ext cx="1168560" cy="1168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468360" y="3429000"/>
            <a:ext cx="920880" cy="1203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1547640" y="2133720"/>
            <a:ext cx="703440" cy="1849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0" y="5877000"/>
            <a:ext cx="1319040" cy="801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Feliz Navidad!"/>
          <p:cNvPicPr/>
          <p:nvPr/>
        </p:nvPicPr>
        <p:blipFill>
          <a:blip r:embed="rId9"/>
          <a:stretch/>
        </p:blipFill>
        <p:spPr>
          <a:xfrm>
            <a:off x="179280" y="18900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Feliz Navidad!"/>
          <p:cNvPicPr/>
          <p:nvPr/>
        </p:nvPicPr>
        <p:blipFill>
          <a:blip r:embed="rId10"/>
          <a:stretch/>
        </p:blipFill>
        <p:spPr>
          <a:xfrm>
            <a:off x="7812000" y="189000"/>
            <a:ext cx="1141560" cy="1100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4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400"/>
                            </p:stCondLst>
                            <p:childTnLst>
                              <p:par>
                                <p:cTn id="1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4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34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4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2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9400"/>
                            </p:stCondLst>
                            <p:childTnLst>
                              <p:par>
                                <p:cTn id="2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14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3400"/>
                            </p:stCondLst>
                            <p:childTnLst>
                              <p:par>
                                <p:cTn id="2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843280" y="5013360"/>
            <a:ext cx="3085920" cy="1476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3657600" cy="39434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3:59:53Z</dcterms:created>
  <dc:creator>Usuario</dc:creator>
  <dc:description/>
  <dc:language>en-US</dc:language>
  <cp:lastModifiedBy>HecvarF</cp:lastModifiedBy>
  <dcterms:modified xsi:type="dcterms:W3CDTF">2007-12-02T09:43:17Z</dcterms:modified>
  <cp:revision>4</cp:revision>
  <dc:subject/>
  <dc:title>Diapositiva 1</dc:title>
</cp:coreProperties>
</file>