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E99-E167-4C72-89CE-A93008FE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28D-95C2-45F2-BE0A-914BC1AE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4AD-2BAC-4064-B37D-FF1FEC33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BC0-4DA6-4C73-AB46-C9C66A28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83F-D698-4E55-AD18-5BAD3A8D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DA0-3B7E-4C39-8B05-C1DDD2C0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F2B-A7AE-4F43-8E7D-6BB011A2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C92-330A-4DA5-8182-E2C2F3CF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E34-2508-4F53-BC4C-BD9B003C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DB5-18E4-41C1-8115-88E2D038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7E3-324E-4D36-AD9A-2E9B7C85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C77-F086-497C-AAF0-927D3BAD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9BD5-9111-40BE-B8D8-D202A2C3AC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pezMurphy001revistatropasusa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563868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¿Quien pensaría de estas personas? limpi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ulcras, con familias, siendo unos bueno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esposos, excelentes padres, buenos amigo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iudadanos ejemplares en E U A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buso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ninoiraq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oldadospolac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orturas" descr=""/>
          <p:cNvPicPr/>
          <p:nvPr/>
        </p:nvPicPr>
        <p:blipFill>
          <a:blip r:embed="rId1"/>
          <a:stretch/>
        </p:blipFill>
        <p:spPr>
          <a:xfrm>
            <a:off x="838080" y="6480"/>
            <a:ext cx="73152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ortura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orturas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orturas12" descr=""/>
          <p:cNvPicPr/>
          <p:nvPr/>
        </p:nvPicPr>
        <p:blipFill>
          <a:blip r:embed="rId1"/>
          <a:stretch/>
        </p:blipFill>
        <p:spPr>
          <a:xfrm>
            <a:off x="228600" y="90360"/>
            <a:ext cx="89154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orturas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orturas14" descr=""/>
          <p:cNvPicPr/>
          <p:nvPr/>
        </p:nvPicPr>
        <p:blipFill>
          <a:blip r:embed="rId1"/>
          <a:stretch/>
        </p:blipFill>
        <p:spPr>
          <a:xfrm>
            <a:off x="0" y="343080"/>
            <a:ext cx="4651200" cy="6172200"/>
          </a:xfrm>
          <a:prstGeom prst="rect">
            <a:avLst/>
          </a:prstGeom>
          <a:ln w="0">
            <a:noFill/>
          </a:ln>
        </p:spPr>
      </p:pic>
      <p:pic>
        <p:nvPicPr>
          <p:cNvPr id="65" name="torturas18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759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orturas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orturas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5562720"/>
            <a:ext cx="8229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siendo unos de los paises del primer mundo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una de las potencias mundiales mas podereros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teniendo en su país las Universisdades ma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restigiadas....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orturas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orturas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orturas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ortura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orturas3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orturas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orturas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orturas6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orturas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orturas9" descr=""/>
          <p:cNvPicPr/>
          <p:nvPr/>
        </p:nvPicPr>
        <p:blipFill>
          <a:blip r:embed="rId1"/>
          <a:stretch/>
        </p:blipFill>
        <p:spPr>
          <a:xfrm>
            <a:off x="1851120" y="0"/>
            <a:ext cx="544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srest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029200"/>
            <a:ext cx="8381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contando con la preparación intelectual que tienen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ontando con genios en las diferentes ramas Física, Química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Matemáticas, Astronomía, Medicína, etc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orturasDetenidos01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0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orturasDetenidos03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orturasDetenidos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orture10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ushpav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28600" y="34290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pero eso si despues de haber demostrado al mundo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entero y a los habitantes del Medio Oriente de 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su poderío, celebran el día de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"acción de gracias"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2copi" descr=""/>
          <p:cNvPicPr/>
          <p:nvPr/>
        </p:nvPicPr>
        <p:blipFill>
          <a:blip r:embed="rId1"/>
          <a:stretch/>
        </p:blipFill>
        <p:spPr>
          <a:xfrm>
            <a:off x="609480" y="-19080"/>
            <a:ext cx="784872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838080" y="457200"/>
            <a:ext cx="7543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¿Gracias, gracias de que, de sus violaciones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y abusos?....¿para que cuando lleguen a su 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País, los vean como héroes?, ...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95280" y="228600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¿Para que cuando lleguen a sus casas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los vean como esposos, padres, amigos y 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vecinos ejemplares?....Aunque para mucha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gente ya se le olvidó, todo esto queda marcado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para la historia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5280" y="5638680"/>
            <a:ext cx="7086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y eso depende de tí, que borres este e-mail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o lo compartas con tus contactos, para que n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mos cuenta de lo que es capaz el Ser Humano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n tal de demostrar ¡¡PODER!!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0463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28600" y="5486400"/>
            <a:ext cx="857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lementos de sus fuezas armadas se hayan comportado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o unas verdaderas bestias, como unos neandertales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etiendo un sin fin de abusos y violaciones a l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rechos civiles,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0441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8600" y="571500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de los civiles y violando el tratado de Gibraltar;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las imagenes que veras son fuertes no aptas para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personas susceptibles...solo tu puedes ser el Juéz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nternacionales-20050130-03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torturas11" descr=""/>
          <p:cNvPicPr/>
          <p:nvPr/>
        </p:nvPicPr>
        <p:blipFill>
          <a:blip r:embed="rId2"/>
          <a:stretch/>
        </p:blipFill>
        <p:spPr>
          <a:xfrm>
            <a:off x="452916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inairaqu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raque-Prisiomeiro%2520e%2520Pa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ijosdeSadd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7:46:02Z</dcterms:created>
  <dc:creator>SEP</dc:creator>
  <dc:description/>
  <dc:language>en-US</dc:language>
  <cp:lastModifiedBy>Reyna Soto</cp:lastModifiedBy>
  <dcterms:modified xsi:type="dcterms:W3CDTF">2006-03-03T21:42:54Z</dcterms:modified>
  <cp:revision>3</cp:revision>
  <dc:subject/>
  <dc:title>Presentación de PowerPoint</dc:title>
</cp:coreProperties>
</file>