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4938C8-F759-4A27-B2E5-6C9704D8DE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BC68A74-EB03-4D1B-8438-54F9B0C63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690EFC5-7E07-4547-A94A-DD2C390EF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96F2FD5-CE03-4377-BC86-7E5C3FAF77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52BD32-D1B7-4185-AC46-FB41DE155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7DCD8A-AED7-4C88-9369-576D4A0EF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4AE005B-B377-42D4-9888-EE85829C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7660B4E-EA5F-4332-BBFF-5CEA169A6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9AADED5-F4F0-4618-AF6F-6BE9814B3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D20477-4E93-4AF7-9787-65DABC0EA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4113F5-2DAD-409B-B315-0E4827A9A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6CC0888-F8C5-4BE9-9248-988B5D2AF3E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649A-16E1-458A-86A9-61426F53D72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LOMBARDI</cp:lastModifiedBy>
  <dcterms:modified xsi:type="dcterms:W3CDTF">2006-08-30T01:10:22Z</dcterms:modified>
  <cp:revision>24</cp:revision>
  <dc:subject/>
  <dc:title>Carta Escrita en el año 2070</dc:title>
</cp:coreProperties>
</file>