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F89-E770-469B-BC79-CD3BE435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C327-3163-4A75-A82F-2D43212F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36A-ED52-4B50-84F1-26849134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91F-FAD1-4AD3-9366-793AC490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A0C-5C10-4031-9DDA-F182A65A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E91-2D4A-4E5B-8E60-9F718F41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1A3-BDA9-40B2-8845-E33D0CF7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2E4-F974-4EFA-ACAA-6856B509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BEB-7510-49DD-9E3A-440C7B76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D51-8155-4B74-93CE-D4C65DE4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D13-CD5E-44B4-B71D-E5B43816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B56-E871-4E60-91A3-68528647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19E3-3186-4949-90F5-5A93205B2AC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6:55:39Z</dcterms:created>
  <dc:creator>Rafael NRS</dc:creator>
  <dc:description/>
  <dc:language>en-US</dc:language>
  <cp:lastModifiedBy>Rafael NRS</cp:lastModifiedBy>
  <dcterms:modified xsi:type="dcterms:W3CDTF">2007-08-09T16:56:17Z</dcterms:modified>
  <cp:revision>1</cp:revision>
  <dc:subject/>
  <dc:title>Slide 1</dc:title>
</cp:coreProperties>
</file>