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E4FB-A781-4BC5-99BF-2FB8DD01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31F-FDB4-4B4E-83E3-C0BC9CF4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E5C-210B-4BC3-A07A-825C85A5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C935-2D87-44F2-8A1B-BAEDF224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A7416-5011-450D-BB9C-42B90E15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A6710-D592-4F80-8FB7-40158A5C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C277A-0DE4-4EC0-8691-D3E58F27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E5864-2174-44B6-BC23-5A7F1377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FA05B-9C96-40CE-AFE3-6C61CF07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24A34-23C5-4C4C-B368-02B806AC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6411C-91CB-4793-B97E-87CAE97B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8E16-AB13-4693-B6AB-C6A70852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A0B43-2FB4-438D-83F3-01E4E57F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F607D-A31B-4345-A4BF-D0A66A66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820F9-E4D3-4284-8FD1-3A742428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16AD3-3847-456B-BBCE-19BB9DF6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BFDF0-C5D7-41CC-BE4D-A9680E09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76002-F7E1-44F1-A937-93BA93F3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318A9-A175-4849-9BF5-340163C9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159AA-41E5-48D9-BF74-9026EC12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D3F30-C164-4D3A-9745-AF6377E2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4AE42-D4A0-4519-AF56-6DE92E25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5ED-DFBD-4D7A-919C-69333031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711E1-60BA-48B2-9DEC-44BE063F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4A746-0ED8-4394-AF0E-A20D208B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98D3A-DC3F-4EFD-AF51-8C2B3BCD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74827-A3FA-4C6B-B0F4-63EBE9C8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627F5-483F-4A7B-870F-5315889A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62CAE-5BFD-4737-B7E4-6D3462E4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37944-C955-4CDD-BD5C-D1623780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310F-220B-4EC7-A89B-D33BC758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0211-833E-4FA5-A96D-7BE5A8D2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9C5-4C3E-4A07-A29D-BA9123A2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1994-5F82-47B7-9EB8-E838B6B7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FC52-D406-4C2E-935D-E1088B33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097-ECE0-4C4F-8378-3D26C232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64F9-CE51-43FB-A21F-99B4A7FFBD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21FD-0870-4292-81E3-E65DBA030FC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5A1B-CB4F-4622-B830-19D756324AF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5157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aldita saband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553440" cy="3834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82920" y="5229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anto daño me has h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408720" cy="3754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51280" y="57801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lim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639880" y="907920"/>
            <a:ext cx="4019760" cy="4896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59280" y="56358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lebra ponsoñ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761080" cy="40626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Rata de dos pata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527688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deshech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547640" y="1676520"/>
            <a:ext cx="6191280" cy="36241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16360" y="52768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odio y te 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332000" y="1590840"/>
            <a:ext cx="6408720" cy="3709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32000" y="5589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Rata de dos p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92360" y="1433520"/>
            <a:ext cx="5904000" cy="4227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5734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estoy hablando a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4214520" cy="4753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00360" y="5661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porque un bicho rast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88000" cy="4075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56000" y="5157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un siendo el mas mal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03280" y="1558800"/>
            <a:ext cx="6408720" cy="3603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Historia de una ca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60720" y="5661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omparado cont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256360" cy="4050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27280" y="51577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se queda muy chiq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4920" y="1557360"/>
            <a:ext cx="6192720" cy="3637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71640" y="527688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aldita sanguij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47640" y="1617840"/>
            <a:ext cx="5977080" cy="3682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16360" y="52038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aldita cucara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76360" y="1471680"/>
            <a:ext cx="6335640" cy="3757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52038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que infectas donde p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76360" y="1724040"/>
            <a:ext cx="6264360" cy="3505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54198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que hieres y que m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616720" cy="3965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37080" y="56358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lim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122560" y="1484280"/>
            <a:ext cx="4681440" cy="41702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200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lebra ponsoñ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979640" y="1490760"/>
            <a:ext cx="5329080" cy="42116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55641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desech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260360" y="1685880"/>
            <a:ext cx="6624720" cy="39038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43280" y="57801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odio y te 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835280" y="1515960"/>
            <a:ext cx="5689440" cy="4289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Rata de dos pata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Canta: Paquita la del bar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59280" y="55641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Rata de dos p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619280" y="1533600"/>
            <a:ext cx="6119640" cy="3983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16360" y="527688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estoy hablando a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332000" y="1436760"/>
            <a:ext cx="6769080" cy="3863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54198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porque un bicho rast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476360" y="1270080"/>
            <a:ext cx="6264360" cy="41274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56000" y="5516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un siendo el mas mal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330200" y="1557360"/>
            <a:ext cx="6337440" cy="40003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56358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omparado cont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332000" y="1220760"/>
            <a:ext cx="6769080" cy="44258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71640" y="5851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se queda muy chiq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4608360" cy="5184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71640" y="55641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e estas oyendo inu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690560" y="1557360"/>
            <a:ext cx="5689800" cy="3971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32000" y="513252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hiena del inf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332000" y="1387440"/>
            <a:ext cx="6481800" cy="3697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52038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anto te odio y te 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842160" cy="4005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39640" y="1141560"/>
            <a:ext cx="7993080" cy="4808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48000" y="51325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Rata Inmu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06560" y="1341360"/>
            <a:ext cx="5329440" cy="3819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48000" y="47721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nimal rast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763640" y="1393920"/>
            <a:ext cx="5832720" cy="3403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32000" y="5157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escoria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264360" cy="3689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038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defecio mal h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616720" cy="3940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7840" y="530064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Infra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360" y="1746360"/>
            <a:ext cx="6191280" cy="355428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59280" y="5300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expectro del inf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480360" cy="380376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22:44:20Z</dcterms:created>
  <dc:creator/>
  <dc:description/>
  <dc:language>en-US</dc:language>
  <cp:lastModifiedBy>Arrecho</cp:lastModifiedBy>
  <dcterms:modified xsi:type="dcterms:W3CDTF">2005-11-01T00:42:53Z</dcterms:modified>
  <cp:revision>10</cp:revision>
  <dc:subject/>
  <dc:title>Slide 1</dc:title>
</cp:coreProperties>
</file>