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CLIC.WAV" ContentType="audio/x-wav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TristeeMelancolico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95A-1F06-424E-B8F6-15F33683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1864-3363-445A-B502-88D264FC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0B0-3C19-4294-BC16-E719212C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0AF9-6086-4D3A-A457-3BD0F585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B527-ECFA-4E84-8B64-2EFE5D22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7E23-B081-4B93-98E4-ADB22FED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757-82F5-4F92-B816-0C264DB0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3CB5-2338-4C1E-B1EA-D0A31BDD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5FEF-9D51-41AD-B6F1-6480DA2B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B6BD-B528-4DDB-B5EC-B0FD14BD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25DB-6293-42E9-8BD5-E24A050E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8C1-F24B-43B4-AF8C-A5AE76E0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D486-3A05-4EFC-A0DB-5F25EDF1F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isteeMelancolic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TristeeMelancolico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5280" y="2349360"/>
            <a:ext cx="36954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¿Cual es la razón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r la que estamos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 favor de la Paz?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53" name=""/>
            <p:cNvSpPr/>
            <p:nvPr/>
          </p:nvSpPr>
          <p:spPr>
            <a:xfrm>
              <a:off x="7772400" y="0"/>
              <a:ext cx="1371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153280" cy="685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920" y="431640"/>
            <a:ext cx="9047160" cy="602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714240"/>
            <a:ext cx="7499520" cy="552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99520" cy="540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8288280" cy="5597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68360" y="5805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Nagasaki póst-holocausto nu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6080" y="44280"/>
            <a:ext cx="6811920" cy="5169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50920" y="5373720"/>
            <a:ext cx="55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in pala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71640" y="1004760"/>
            <a:ext cx="7488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MUNDO ESTÁ EN GU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MUNDO ESTÁ DE L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TE  e-mail  DEBE  RECORRER  LA 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CONVENCER INCLUSO A AQUEL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NO QUIEREN COMPRENDER. 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IGIMOS QUE EN NUESTRO PLAN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PAZ SE SOBREPONGA A TODAS LAS CO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4360" y="1187280"/>
            <a:ext cx="7848360" cy="448308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DIMOS  QUE  ESTE  e-mail  SEA  TRADUCID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TODAS LAS LENGU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 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DISTINCIÓN DE RAZA, DE COL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RELIGIÓN O DE NACIONALIDA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UEDAN PARTICIPAR DE ESTA G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TICIÓN POR LA PA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16000" y="333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Gracias por no romper esta cade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505476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Que todos los seres, en todos el mundo, sean felices y bienaventurad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46000" y="620640"/>
            <a:ext cx="7471080" cy="5607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76360" y="3573360"/>
            <a:ext cx="59752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merican Classic Extra Bold"/>
              </a:rPr>
              <a:t>Pa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merican Classic Extra Bold"/>
              </a:rPr>
              <a:t>Pe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merican Classic Extra Bold"/>
              </a:rPr>
              <a:t>Shan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4880" y="609480"/>
            <a:ext cx="773424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59440" cy="447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4595760" cy="616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661520" cy="514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4480" y="836640"/>
            <a:ext cx="7788240" cy="52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959880" cy="521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271440"/>
            <a:ext cx="4883040" cy="639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360" y="692280"/>
            <a:ext cx="3684600" cy="564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4:16:47Z</dcterms:created>
  <dc:creator/>
  <dc:description/>
  <dc:language>en-US</dc:language>
  <cp:lastModifiedBy>Gaspar V.</cp:lastModifiedBy>
  <dcterms:modified xsi:type="dcterms:W3CDTF">2006-10-16T23:11:03Z</dcterms:modified>
  <cp:revision>30</cp:revision>
  <dc:subject/>
  <dc:title>Por la Paz</dc:title>
</cp:coreProperties>
</file>