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BFC6-82F7-4095-90FE-83CDEB34E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B58E-AEAB-4D87-909A-79D3A8F07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48BE-8589-4ED4-995E-56B909C88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3032-FF4E-4377-889A-8C18EED35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9253-9156-4456-A5F7-C2E03BEC3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8B00-57FC-4A03-AACE-B5FB90C5F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C4E7-FE9C-4B57-9302-BCC45120F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6690-020A-4393-AA00-0573ECC05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4275-747E-4F15-AE51-5E63AEF8F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F4EC-A2DC-45C7-AE61-7F9AE50E4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692B-F991-4F4A-9283-6E57D0100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432B-64F9-4E7A-9D6A-07FB00CD1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0F231-3D69-44E8-9486-673E4752819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Empieza por hacer lo necesario, luego lo que es posible... y de pronto estarás haciendo lo imposible"</a:t>
            </a:r>
            <a:br>
              <a:rPr sz="1400"/>
            </a:b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Una vez que envíes el mensaje aprieta F6 y veras lo que te aparece....insólito pero cierto.....da miedo pero es cierto....suerte. </a:t>
            </a:r>
            <a:br>
              <a:rPr sz="1400"/>
            </a:br>
            <a:br>
              <a:rPr sz="4000"/>
            </a:b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                                                                  </a:t>
            </a:r>
            <a:br>
              <a:rPr sz="4000"/>
            </a:b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Manda esto a 15 personas en los próximos 143 minutos, luego presiona F6 y el nombre de quien t ama aparecerá en letra grande, da tanto miedo por qué es real pero si rompes esta cadena serás castigado con problemas en sus próximas relaciones de por vida copia y pégalo .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059280" y="1700280"/>
            <a:ext cx="26319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9T02:23:35Z</dcterms:created>
  <dc:creator>Said</dc:creator>
  <dc:description/>
  <dc:language>en-US</dc:language>
  <cp:lastModifiedBy>Angelica Morales (YAM0047 - INMEX-KCB3WTD)</cp:lastModifiedBy>
  <dcterms:modified xsi:type="dcterms:W3CDTF">2006-01-23T17:11:28Z</dcterms:modified>
  <cp:revision>1</cp:revision>
  <dc:subject/>
  <dc:title>Empieza por hacer lo necesario, luego lo que es posible... y de pronto estarás haciendo lo imposible" Una vez que envíes el mensaje aprieta F6 y veras lo que te aparece....insólito pero cierto.....da miedo pero es cierto....suerte.                                                                                                                                     Manda esto a 15 personas en los próximos 143 minutos, luego presiona F6 y el nombre de quien t ama aparecerá en letra grande, da tanto miedo por qué es real pero si rompes esta cadena serás castigado con problemas en sus próximas relaciones de por vida copia y pégalo .. </dc:title>
</cp:coreProperties>
</file>