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lasicaBeethovenSonataClarodeLuna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BCE-B41B-45D7-82AC-00522B88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F3A-13E8-44CB-98F9-E2923C8C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7BD-B3D2-4D33-B1C2-D8714528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AEA-1964-4AD4-8EB6-31F4CBCB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602C-05A8-4F69-8DC9-D7F49FC1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4A0F-9D9B-449F-9AED-3C718716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57AC-2D07-4DDB-B3FD-6C2D4CE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128D-CD2C-4C60-A360-4EFD3E74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3CBF-AF80-4C0C-96E7-55B4BC81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76D7-604E-403B-8A79-9F8CE907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AA11-6164-4EF8-B5D1-BB2D022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C6E-FD24-47BC-99A9-B437A3A1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C9F7-4605-4DD5-96E3-A0A61197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64F0-852D-47B2-B879-E5FD23C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B999-985A-4783-93BD-4F8E0BBC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C401-FE3F-4427-89E3-F4E807B2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B282-E4F8-40E5-91DB-29AA96FB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A02-A919-40D1-9211-C28CB45B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A4E-B617-4BB3-8FDA-6C675B45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7C5-544F-4A87-8CE6-A49ABDE1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59A-5D1A-483F-8559-2500D711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305-4DB2-4900-A882-E06125E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116-03FF-4751-814B-57CEBE82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31A-6E3A-44E4-8002-795D525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208-9390-47E6-806D-3A9FE74C2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183C-0054-459F-9666-D99B20395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lasicaBeethovenSonataClarodeLuna.wav" TargetMode="External"/><Relationship Id="rId4" Type="http://schemas.microsoft.com/office/2007/relationships/media" Target="file:///tmp/home/.config/libreoffice/4/user/gallery/ClasicaBeethovenSonataClarodeLuna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lasica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623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"13 LÍNEAS PARA VIVIR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2944800"/>
            <a:ext cx="7697520" cy="347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6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08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Quizá Dios quiera que conozcas mucha gente equivocada  antes de que conozcas a la persona adecuada, para que cuando al fin la conozcas , sepas estar agrad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4248" t="12758" r="14248" b="12796"/>
          <a:stretch/>
        </p:blipFill>
        <p:spPr>
          <a:xfrm>
            <a:off x="457200" y="45720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152388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llores porque ya se </a:t>
            </a:r>
            <a:r>
              <a:rPr b="0" lang="es-MX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inó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ríe porque sucedi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7146" t="14234" r="17405" b="14587"/>
          <a:stretch/>
        </p:blipFill>
        <p:spPr>
          <a:xfrm>
            <a:off x="228600" y="685800"/>
            <a:ext cx="5715000" cy="498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335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Siempre habrá gente que te lastime, así que lo que tienes que hacer es seguir confiando y solo ser mas cuidadoso en quien confías dos ve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819520" cy="27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38088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Conviértete en una mejor persona y asegúrate de saber quien eres antes de conocer a alguien más y  esperar que esa  persona sepa quien e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85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25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5335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te esfuerces tanto, las mejores cosas suceden cuando menos te las esperas.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0759" t="53801" r="8625" b="0"/>
          <a:stretch/>
        </p:blipFill>
        <p:spPr>
          <a:xfrm>
            <a:off x="6400800" y="5181480"/>
            <a:ext cx="228600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0263" t="13926" r="10263" b="13926"/>
          <a:stretch/>
        </p:blipFill>
        <p:spPr>
          <a:xfrm>
            <a:off x="338040" y="304920"/>
            <a:ext cx="42339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09700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   </a:t>
            </a:r>
            <a:r>
              <a:rPr b="0" lang="es-ES" sz="3200" spc="-1" strike="noStrike">
                <a:solidFill>
                  <a:srgbClr val="ffff99"/>
                </a:solidFill>
                <a:latin typeface="Verdana"/>
                <a:ea typeface="Times New Roman"/>
              </a:rPr>
              <a:t>Envíalo a las personas que por alguna razón son tus amigos,  aunque no los veas siempre, aunque no les hables siempre.. pues recu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"TODO LO QUE SUCEDE, SUCEDE POR UNA RAZÓN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98080" cy="830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e quiero no por quien eres, sino por quien soy cuando estoy conti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343400" y="1143000"/>
            <a:ext cx="3916440" cy="490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051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Ninguna persona merece tus l</a:t>
            </a:r>
            <a:r>
              <a:rPr b="0" lang="es-MX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á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grimas, y quien se las merezca no te hará llor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8124" t="8460" r="8550" b="5257"/>
          <a:stretch/>
        </p:blipFill>
        <p:spPr>
          <a:xfrm>
            <a:off x="4724280" y="685800"/>
            <a:ext cx="398160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05520" y="609480"/>
            <a:ext cx="327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Sólo porque alguien no te ame como tu quieres,</a:t>
            </a:r>
            <a:r>
              <a:rPr b="0" lang="en-U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no significa que no te ame con todo su s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2574" t="6772" r="11968" b="15405"/>
          <a:stretch/>
        </p:blipFill>
        <p:spPr>
          <a:xfrm>
            <a:off x="380880" y="457200"/>
            <a:ext cx="441324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13976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cc"/>
                </a:solidFill>
                <a:latin typeface="Verdana"/>
                <a:ea typeface="Times New Roman"/>
              </a:rPr>
              <a:t>Un verdadero amigo es quien te toma de la mano y te toca el coraz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7640" cy="6400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eor forma de extrañar a alguien es estar sentado a su lado y saber que nunca lo podrás te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0273" t="15491" r="10320" b="17056"/>
          <a:stretch/>
        </p:blipFill>
        <p:spPr>
          <a:xfrm>
            <a:off x="4572000" y="685800"/>
            <a:ext cx="44449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Nunca dejes de sonreír, ni siquiera cuando estés triste porque nunca sabes quien se puede enamorar de tu sonri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6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698" t="3386" r="3766" b="15405"/>
          <a:stretch/>
        </p:blipFill>
        <p:spPr>
          <a:xfrm>
            <a:off x="4572000" y="685800"/>
            <a:ext cx="445788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Puedes ser solamente una persona para el mundo, pero para alguna persona tu eres el mu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9076" t="6772" r="7045" b="6945"/>
          <a:stretch/>
        </p:blipFill>
        <p:spPr>
          <a:xfrm>
            <a:off x="4572000" y="380880"/>
            <a:ext cx="43117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7652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No pases el tiempo con alguien que no </a:t>
            </a:r>
            <a:r>
              <a:rPr b="0" lang="es-MX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esté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dispuesto a  pasarlo contigo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83688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/>
  <dc:description/>
  <dc:language>en-US</dc:language>
  <cp:lastModifiedBy>Eve Gisela Dib Chagra</cp:lastModifiedBy>
  <dcterms:modified xsi:type="dcterms:W3CDTF">2004-09-26T21:40:06Z</dcterms:modified>
  <cp:revision>53</cp:revision>
  <dc:subject>13 Líneas para vivir.</dc:subject>
  <dc:title>Presentación de PowerPoint</dc:title>
</cp:coreProperties>
</file>