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2825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467-8B37-41BE-A65A-21FF5ED7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0FE-30D8-4247-A304-58D7A52F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D0D-B486-4D39-80AC-A31900DF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4AC-CF15-4711-8EE5-A2BFC3BB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748-44CC-4C92-8606-78971F64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4BA-593C-4875-A5E7-0249A47B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D19-C1C5-46E1-BB76-BC647AE2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AE2-B0B3-4256-9916-4C640931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109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5CC-9681-4DEB-907F-57EE91B3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DAF-675F-4AAC-B97D-3D89F43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5C2-52F3-4270-87FC-B3868886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10D-0EF0-4C9B-9480-E88E73AB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6360"/>
            <a:ext cx="206352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6360"/>
            <a:ext cx="313704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5600" y="6246360"/>
            <a:ext cx="206388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59F5B599-42EC-4EA7-970F-2837D00A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416800" cy="71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Bank and Trust Company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Trust Company (Cayman)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SATIONAL CHART as of Nov 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4120" y="3048120"/>
          <a:ext cx="829152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3048120"/>
                    <a:ext cx="829152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0440" y="857160"/>
            <a:ext cx="15858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L. Lowell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8920" y="857160"/>
            <a:ext cx="1586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xecutive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89320" y="857160"/>
            <a:ext cx="15876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les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67360" y="785880"/>
            <a:ext cx="1333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Trus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Humphre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3160" y="785880"/>
            <a:ext cx="1968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Private Label Funds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0480" y="6000840"/>
            <a:ext cx="374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 A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# B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@ Member Local Managemen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8920" y="2428920"/>
            <a:ext cx="14590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TRA-AL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1440" y="2428920"/>
            <a:ext cx="139680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Spinn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7440" y="2428920"/>
            <a:ext cx="12682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PR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7880" y="6286680"/>
            <a:ext cx="15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 Count: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4:30:21Z</dcterms:created>
  <dc:creator>J.B.B.T</dc:creator>
  <dc:description/>
  <dc:language>en-US</dc:language>
  <cp:lastModifiedBy>Rudolf</cp:lastModifiedBy>
  <cp:lastPrinted>2000-10-27T14:38:22Z</cp:lastPrinted>
  <dcterms:modified xsi:type="dcterms:W3CDTF">2004-01-28T20:47:55Z</dcterms:modified>
  <cp:revision>4</cp:revision>
  <dc:subject/>
  <dc:title>Julius Baer Bank and Trust Company Ltd. Julius Baer Trust Company (Cayman) Ltd. ORGANISATIONAL CHART as of Oct 1, 2000</dc:title>
</cp:coreProperties>
</file>