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5E7-F930-473C-8754-32F56E5B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544-F7DA-4F4D-942F-A550B72D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972-18F7-4E18-9E91-6EF89301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51F-C845-4905-9DBA-77F50819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274F2-90E0-4CE8-BFE3-6F1F8D34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4C473-A564-4FE1-994D-CE542335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3B2DB-5888-4395-98EC-DD58CF4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5F02-CBF4-444D-B6E1-4FE767D0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03E6-54B6-4E50-8B5B-62ED839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5375C-70CB-490C-9492-DF59D32E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05F34-4B00-4994-A892-57C7750E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CEB-0DE3-4BCF-AB57-62FFFC25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3D880-9E4A-4107-8EC8-01D38DB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B0FA6-164D-4B9F-9D50-CF0718D9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646DE-9ECE-4F6F-A467-A28F3912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A8BBE-BB71-4CD8-8D79-029BC50E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CB22-D5A8-440B-AD12-6D3B5D54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59E1-B815-448B-BE6E-2B941E58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A9F03-1291-41E5-9DB6-A704883C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DF3F-E4E9-4127-8B18-0BB70668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72E0-A233-4D12-A568-9C0841D2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DBD3-04DE-4FA7-B0F3-30EA0337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D11-9130-4CD7-B4C1-60A05A6A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F09C-27C5-4925-852D-E97A6044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1431-99D3-4D7E-857D-329BF160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5F36-53A8-4E08-AD83-0F80B6CC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F544-D886-4B18-A37C-10DF625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C3AF-643E-42C3-A415-70F6DB5D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2B76B-5D8C-4ED4-9C9A-FD180A25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FA68-87B8-4F1B-8C66-2B917055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46F-2679-4646-91BD-87F0DA0C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C28-21DF-4EBA-9384-635CB26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C05-68EA-4A16-849D-0229C996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19F-AFB0-403D-A004-B8EE6B25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C2C-86C3-4429-B7F0-5DD65B2D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E4C-2F75-4C9D-A904-A0FE879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5E48-CF8D-4144-B79B-CEF5D359C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D5C2-23FC-4169-B8AC-E0D57A78F0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B683-2839-4FAA-BE0D-18185963E1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ban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3834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daño me has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37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578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39880" y="907920"/>
            <a:ext cx="40197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635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61080" cy="4062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h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676520"/>
            <a:ext cx="619128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2768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1590840"/>
            <a:ext cx="6408720" cy="370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558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92360" y="1433520"/>
            <a:ext cx="5904000" cy="4227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5734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214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075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51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558800"/>
            <a:ext cx="6408720" cy="36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istoria de una 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405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157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4920" y="1557360"/>
            <a:ext cx="619272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2768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nguij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977080" cy="368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5203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cucar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471680"/>
            <a:ext cx="6335640" cy="3757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2038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infectas donde 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1724040"/>
            <a:ext cx="626436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541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hieres y que m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7080" y="5635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2560" y="1484280"/>
            <a:ext cx="4681440" cy="417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1490760"/>
            <a:ext cx="5329080" cy="4211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60360" y="1685880"/>
            <a:ext cx="6624720" cy="3903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780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35280" y="1515960"/>
            <a:ext cx="5689440" cy="428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anta: Paquita la del 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19280" y="153360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1436760"/>
            <a:ext cx="6769080" cy="386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19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76360" y="1270080"/>
            <a:ext cx="6264360" cy="41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5516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337440" cy="4000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6358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220760"/>
            <a:ext cx="6769080" cy="4425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5851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5564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e estas oyendo in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0560" y="1557360"/>
            <a:ext cx="5689800" cy="3971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2000" y="51325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hiena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32000" y="1387440"/>
            <a:ext cx="6481800" cy="3697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520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84216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1141560"/>
            <a:ext cx="799308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13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Inmu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6560" y="1341360"/>
            <a:ext cx="5329440" cy="381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772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nimal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1393920"/>
            <a:ext cx="5832720" cy="3403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scoria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689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03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defecio mal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7840" y="5300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fra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1746360"/>
            <a:ext cx="61912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xpectro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480360" cy="3803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20Z</dcterms:created>
  <dc:creator/>
  <dc:description/>
  <dc:language>en-US</dc:language>
  <cp:lastModifiedBy>Arrecho</cp:lastModifiedBy>
  <dcterms:modified xsi:type="dcterms:W3CDTF">2005-11-01T00:42:53Z</dcterms:modified>
  <cp:revision>10</cp:revision>
  <dc:subject/>
  <dc:title>Slide 1</dc:title>
</cp:coreProperties>
</file>