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FBF-CEC3-4BCF-A4F0-ACEF193B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114-B6C6-4B7A-B329-175AC600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9E9-286F-4783-853E-ABEFC531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439-EF27-4484-A368-4E118CCC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90D59-8EF1-46CA-9306-B2E04D10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2A96B-F77D-4540-88EE-B7850A8C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D9A03-FAF4-4408-A888-3809A347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D91AF-CBF6-469A-906C-19594D43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C4AE8-835F-4CEE-AE5C-8A6143A8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B6ACD-5B17-46D5-9CFA-8BF43599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8859A-3A6B-4742-A7E0-B8D9E31B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CAD-6646-4298-A135-155ADB02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04B36-3790-449F-8D8D-35490D24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0685A-B3E8-4552-A572-4EDE2278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CB780-0E48-4E1D-9131-57CDD0BB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E0251-3D84-478C-B77D-62E6AB1A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8A829-A681-4A84-B479-A9DEA7F4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CEC51-81D8-46DF-B6B4-2765B4E3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A5EAB-213F-4137-B190-CE1443EB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BC8C-C832-4E8A-9D2E-7647BEC6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90D2-51D3-46B9-9D28-DCFF5BB5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602F-75BC-4778-BF1B-603065FA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FD6A-2DAB-4DE7-B131-328BF5B0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3D90-0CDF-4AB4-AB68-8D2E1ACA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F7CAA-6590-4BFD-A8A7-3A921333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C03D9-E1F0-4595-8C60-98274EA8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B6130-8ED3-4C73-9C1F-F8F622E1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200B-06A0-48C6-A125-1A1BF253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1B486-F379-44E6-AF54-451699F8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CAD15-ECD4-4211-A305-32172B7C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D398FB-644E-469E-AA50-998599AB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345EA3-38A0-4819-A2BB-0E42E6B7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013FB9-84BB-4FC1-899E-90FA63DA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D5F-CD32-40D7-ADF2-C3EAC499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A7954D-74EA-42A4-8B59-EBEB6B7A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A7FB1E-E7A7-4F76-89DF-40FE4489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0FADD-A269-4882-B48E-E3D521DD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4DD86D-F82A-48A8-96AF-4F8EAC83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D93BD9-54DE-4594-B24F-F615B3DC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E2A5C1-40F5-4548-8B9A-7E1D35A4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8A306E-D5D1-434E-BD44-0993F932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E40CDC-0C98-44EE-8DF4-EE8CC425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7D00D0-67DD-4C7D-BDF8-5C038648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890953-0F50-4FAD-94BC-86518408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4F3-00F6-445C-B076-DB2F0584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20D74-A644-46D6-A6EF-3EA00FEC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2CBFB9-6D8E-4A40-8BF7-BC30BD6F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EF410-E9FD-4BFE-AEB1-88570609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55AF1-9D70-489B-A901-D9651025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44C5D-C7EA-4C3B-9581-1E8B8217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A0A80-74C4-4EA9-8FE2-6F32FEB2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93B61F-6097-4B82-B67E-EB98C0F8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F8EB7A-A86B-4DC3-AD2E-AE2BB218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36AB2-F10B-4C64-BAA7-1785A807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01A4F-486C-4049-B268-D7F767BC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995-C369-464F-AC6D-48116144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9C6C7-0FAC-4704-B16C-F01041B2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6DF30-B921-47B6-B21B-430E71BE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C9210-6F8D-40BF-8802-79B6077F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EA151-D314-46D0-B9C1-133C426F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FB95CF-211F-4A05-875A-C96C1E08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75FE6-DD8B-462D-834B-5150FF31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C0F895-B6CD-47FC-9FAD-2C6DAFBB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389E20-4A9E-456C-B945-21BC35F8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FB1E9-B5D6-49E3-B25E-B0C9E91F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7F452-4E7A-4DB5-BCA8-33FEAE66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7EF-6DE4-434D-A91D-90DF72B6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751104-9C01-41E9-BEAB-D9759872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CDD17-65D6-45C5-B789-D0978985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8D8B18-7005-451B-BE7D-47EF8FE5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766-1290-43AF-81B7-9349E683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A8F-A7B9-4438-A987-6C3F2E72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55FF-1C79-40C6-A2A7-18A783F5A26F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10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3AA9-8E02-4F6B-88BA-1D23A736ABF9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C191-C9B1-40E6-85DF-C41256F27947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DAF0-D3C3-49E1-8948-7C089E1637C9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3808-BEA7-4EFA-8659-5ACC55CBBB76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4F35-9DE5-4CB2-9285-10FF46E9C64D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8 Rectángulo" descr=""/>
          <p:cNvPicPr/>
          <p:nvPr/>
        </p:nvPicPr>
        <p:blipFill>
          <a:blip r:embed="rId1"/>
          <a:stretch/>
        </p:blipFill>
        <p:spPr>
          <a:xfrm>
            <a:off x="-201600" y="-6480"/>
            <a:ext cx="9547200" cy="74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2:19:56Z</dcterms:created>
  <dc:creator>WinuE</dc:creator>
  <dc:description/>
  <dc:language>en-US</dc:language>
  <cp:lastModifiedBy>WinuE</cp:lastModifiedBy>
  <dcterms:modified xsi:type="dcterms:W3CDTF">2008-05-23T03:47:22Z</dcterms:modified>
  <cp:revision>3</cp:revision>
  <dc:subject/>
  <dc:title>Diapositiva 1</dc:title>
</cp:coreProperties>
</file>