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4AB-3556-4BB0-B453-5C18B3AE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A28-A402-4AE0-AFD3-06CE2A62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9BD-FF72-4E7B-A2BB-0331009D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0821-D4F4-4141-BD77-779B0787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CA7-28B7-4F36-8C93-B011D677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C47-80D4-46AE-83CD-C61970A6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4EB-91BA-4D98-9C60-1FDDA422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32F-A257-4735-944A-6C814EC6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E29-4F25-4787-9D29-EA481941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D2D-C3B6-4A79-B3AE-4F2E3F29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CB6-329C-4239-8DBF-6AFCA08A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7EC-33F3-43EC-A423-9C8D29C4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A416-1D83-42EA-B556-C4A1CC2BF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Hablemos de</a:t>
            </a:r>
            <a:br>
              <a:rPr sz="5400"/>
            </a:b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Rentabilidad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 ya se llevaron 9…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Arial"/>
              </a:rPr>
              <a:t>EL HOMBRE MIRA DESOLADO A LA MUJER Y LE DICE: “Y BUENO VIEJA, AL MENOS NOS QUEDA 1 CAMIÓN DE LA TAN RENTABLE SOJA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38163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51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147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n eso llega el contador y les dice que COMO GANARON 1, tienen que pagarle al estado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5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AS GANANCIAS,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,2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l IMPUESTO AL CHEQUE y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OS BIENES PERSONAL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sí que me llevo el acoplado y 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USTEDES SE QUEDAN CON EL CH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132000" y="4432320"/>
          <a:ext cx="2573640" cy="17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4432320"/>
                    <a:ext cx="25736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ESTA ES LA REALIDAD DEL CA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407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S BUENO QUE SE SEP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 matrimonio de productores que vivían en el campo, durante la cena empezaron a planear lo que harían con el dinero producido por la soja sembrada en su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0 hectárea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ese dinero pensaban llevar la luz a su campo y arreglar los caminos de acce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de haber trabajado la tierra arduamente durante 6 meses, de sol a sol, y de haber sufrido al compás de lo que les deparaba el cli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asta que por fin llegó el momento de la cosech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mo la soja le había rendido bien (30 quintales por hectárea) lograron cargar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0 camiones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0036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73272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7093080" y="5084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47636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85128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084720" y="5950080"/>
            <a:ext cx="18352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51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51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351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851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351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851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351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851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351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51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tonces vino el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quinis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que les cosechó la “tan rentable soja” y les dijo que les iba a cobrar el 10%, a lo que el matrimonio le respondió que bueno, total se llevarí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camió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92360" y="4941720"/>
            <a:ext cx="183528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951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0289E-006 L 0.70087 -1.50289E-006 E">
                                      <p:cBhvr>
                                        <p:cTn id="10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vino el dueño de la empresa de transporte y les dijo que les iba a cobrar un flete de $85 por tonelada; como eran 300 toneladas e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10%.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Por lo que el matrimonio dijo bueno, total sería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camió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5300640"/>
            <a:ext cx="183492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51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71676E-006 L 0.64566 -2.71676E-006 E">
                                      <p:cBhvr>
                                        <p:cTn id="11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929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Después llamaron al acopiador para comercializar la “tan redituable soja” y el comerciante les dijo que bueno, pero que el ESTADO había dispuesto una RETENCIÓN D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4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sobre la rentable soja, a lo que el matrimonio dijo que bueno, entregaremo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 camiones y medio má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515772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76360" y="61167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48000" y="530064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19640" y="6116760"/>
            <a:ext cx="1835280" cy="74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7093080" y="5445000"/>
          <a:ext cx="1062000" cy="73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93080" y="5445000"/>
                    <a:ext cx="1062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51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51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51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51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51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948E-006 L 0.97066 -0.00162 E">
                                      <p:cBhvr>
                                        <p:cTn id="14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71676E-006 L 0.66146 -2.71676E-006 E">
                                      <p:cBhvr>
                                        <p:cTn id="14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50867E-006 L 0.84253 -4.50867E-006 E">
                                      <p:cBhvr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9711E-006 L 0.45678 -4.9711E-006 E">
                                      <p:cBhvr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71676E-006 L 0.30712 -2.71676E-006 E">
                                      <p:cBhvr>
                                        <p:cTn id="1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Hasta acá van </a:t>
            </a:r>
            <a:r>
              <a:rPr b="1" lang="es-ES_tradnl" sz="5400" spc="-1" strike="noStrike">
                <a:solidFill>
                  <a:srgbClr val="ffffff"/>
                </a:solidFill>
                <a:latin typeface="Arial"/>
              </a:rPr>
              <a:t>6 camiones y medio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8000" y="50133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987640" y="580536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276720" y="414972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716360" y="5084640"/>
            <a:ext cx="1835280" cy="7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6877080" y="5892840"/>
          <a:ext cx="1008000" cy="70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77080" y="5892840"/>
                    <a:ext cx="10080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1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1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1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1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1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07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ás tarde vinie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on Monsanto y Don Cargill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que les dijeron que los insumos retirados para su campaña de soja representaban $600 por hectárea y entonces por las 100 hectáreas era u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5%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de lo producido, entonces se lleva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 camiones y medio má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659640" y="5516640"/>
          <a:ext cx="1063440" cy="7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5516640"/>
                    <a:ext cx="1063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11280" y="551664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419640" y="5589720"/>
            <a:ext cx="18730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51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351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51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04046E-006 L 0.97847 -0.00139 E">
                                      <p:cBhvr>
                                        <p:cTn id="20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0.7717 9.82659E-007 E">
                                      <p:cBhvr>
                                        <p:cTn id="21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5434E-006 L 0.34357 -0.00162 E">
                                      <p:cBhvr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2:32:07Z</dcterms:created>
  <dc:creator>WinuE</dc:creator>
  <dc:description/>
  <dc:language>en-US</dc:language>
  <cp:lastModifiedBy>Usuario</cp:lastModifiedBy>
  <dcterms:modified xsi:type="dcterms:W3CDTF">2008-03-26T12:23:39Z</dcterms:modified>
  <cp:revision>5</cp:revision>
  <dc:subject/>
  <dc:title>Hablemos de Rentabilidad…</dc:title>
</cp:coreProperties>
</file>