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9.gif" ContentType="image/gif"/>
  <Override PartName="/ppt/media/image1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9.gif" ContentType="image/gif"/>
  <Override PartName="/ppt/media/Track09.wav" ContentType="audio/x-wav"/>
  <Override PartName="/ppt/media/image13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B324-4495-4972-A632-2EB38D03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A9633-6D46-411C-AAA7-CD5B3FB4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FF78-CC91-48CE-9742-D8ECAB8C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1686-D78C-4111-9DE5-B0FFBE7B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F31D-D892-4F14-A32F-28C7F164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3C8F-2B4F-432F-A25C-7F04EBC7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0F3F-58CE-4A84-9401-5435552A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553F-E796-4AE0-813C-83C9D7A7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3A20-7FA6-4725-85B1-820BAD40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B583-2489-4156-91E9-48CE9548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5E99-4D8F-4329-9FDC-1BC7DEA8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42F7-2CA0-4672-9CE1-18C04CF9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C952-CD7C-4693-8820-7C327DEF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F361-E04B-4BB2-9845-4929AC51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2A4E-880E-4B09-8007-F524286B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0C1D-722A-41DD-A09B-257889F5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8B9E-B3FB-4AE0-9426-6C49DF38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96228-08E2-4DD5-BFBC-F751CDF2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F4DBD-0246-44A8-BC58-0D0D5984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60BB0-20DC-470F-B4F5-273C2005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EA2FD-AD54-4DC7-806A-054E50AE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59F5A-1BD9-4908-920A-090B22CA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B0455-F163-4526-937C-9D101377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1CFAB-F7E4-464A-BDB6-BEAAA795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43A6C-228F-4B2A-AA7F-2E242895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68EE1-FCFB-4D15-A778-08FB0304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E434F-75B4-4CD6-B7B0-CA67670B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44C24-6DB8-4A5B-997C-42C3DC55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24B08-9180-44D6-8E14-76E14607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ACC1B-6387-488B-B0B1-7C015B7E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33442-9751-4104-9D57-9A8F3ED0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C2180-9592-4A40-8841-E72613BD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DAD46-6292-4A4B-B049-4837AE26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22FD3-D758-420B-B91D-3357444F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992F-5BEC-4B85-AB1C-2A62AFCB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50511-7C1D-4A4D-9B81-C4A61182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AC85-FBBE-473E-B6AC-D0742D15AC2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AA6E-36F1-4FF0-B3FD-F6825A2A5E1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0E06-7644-42BF-A7DD-DDE2CD665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Track09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2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26920" y="549360"/>
            <a:ext cx="756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Lucida Calligraphy"/>
              </a:rPr>
              <a:t>Mensaje de Navida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545080" cy="5310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462840" y="64198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66"/>
                </a:solidFill>
                <a:latin typeface="Lucida Calligraphy"/>
              </a:rPr>
              <a:t>Sonido - m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wheel spokes="1"/>
    <p:sndAc>
      <p:stSnd>
        <p:snd r:embed="rId2" name="Track0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100"/>
                            </p:stCondLst>
                            <p:childTnLst>
                              <p:par>
                                <p:cTn id="1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200"/>
                            </p:stCondLst>
                            <p:childTnLst>
                              <p:par>
                                <p:cTn id="21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4,-86,-14)"/>
                                      </p:to>
                                    </p:se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4,-86,-14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300"/>
                            </p:stCondLst>
                            <p:childTnLst>
                              <p:par>
                                <p:cTn id="26" nodeType="after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3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1773360"/>
            <a:ext cx="273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tristeza, alégrate.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Gozo.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314172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1557360"/>
            <a:ext cx="295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enemigos, reconcíliate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Paz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amigos, búscalos.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Encuent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259272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Feliz Navidad!"/>
          <p:cNvPicPr/>
          <p:nvPr/>
        </p:nvPicPr>
        <p:blipFill>
          <a:blip r:embed="rId3"/>
          <a:stretch/>
        </p:blipFill>
        <p:spPr>
          <a:xfrm>
            <a:off x="179280" y="189000"/>
            <a:ext cx="1079640" cy="1039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Feliz Navidad!"/>
          <p:cNvPicPr/>
          <p:nvPr/>
        </p:nvPicPr>
        <p:blipFill>
          <a:blip r:embed="rId4"/>
          <a:stretch/>
        </p:blipFill>
        <p:spPr>
          <a:xfrm>
            <a:off x="7812000" y="189000"/>
            <a:ext cx="1141560" cy="1100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332000" y="5157720"/>
            <a:ext cx="3333600" cy="1143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600"/>
                            </p:stCondLst>
                            <p:childTnLst>
                              <p:par>
                                <p:cTn id="76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989000"/>
            <a:ext cx="230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Si tienes a tus padres a tu lado, ayúdalos.</a:t>
            </a:r>
            <a:br>
              <a:rPr sz="2000"/>
            </a:b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La Navidad es D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3068640"/>
            <a:ext cx="2879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Si tienes tiniebl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enciende tu lámpara,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La Navidad es Luz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3167280" cy="3167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Feliz Navidad!!!"/>
          <p:cNvPicPr/>
          <p:nvPr/>
        </p:nvPicPr>
        <p:blipFill>
          <a:blip r:embed="rId3"/>
          <a:stretch/>
        </p:blipFill>
        <p:spPr>
          <a:xfrm>
            <a:off x="250920" y="260280"/>
            <a:ext cx="1077840" cy="1297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Feliz Navidad!!!"/>
          <p:cNvPicPr/>
          <p:nvPr/>
        </p:nvPicPr>
        <p:blipFill>
          <a:blip r:embed="rId4"/>
          <a:stretch/>
        </p:blipFill>
        <p:spPr>
          <a:xfrm>
            <a:off x="7885080" y="189000"/>
            <a:ext cx="1074600" cy="1295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4467240" y="3381480"/>
            <a:ext cx="209520" cy="95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1319400" cy="80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4360" y="1628640"/>
            <a:ext cx="280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soberbia, sepúltala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Humildad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deudas, págalas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Justicia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errores, reflexiona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Verdad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24360" y="2060640"/>
            <a:ext cx="2376360" cy="217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12960" cy="3527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79280" y="5877000"/>
            <a:ext cx="1319400" cy="801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35640" y="260280"/>
            <a:ext cx="27367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Si tienes pecados, conviértete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La Navidad es Gracia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Si tienes odio, olvídalo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La Navidad es Amor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FELIZ NAVIDAD Y MUCHO AMOR</a:t>
            </a:r>
            <a:r>
              <a:rPr b="1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995640" y="3860640"/>
            <a:ext cx="1057320" cy="1095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987640" y="3141720"/>
            <a:ext cx="990720" cy="115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763640" y="3357720"/>
            <a:ext cx="1168560" cy="1168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468360" y="3429000"/>
            <a:ext cx="920880" cy="1203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1547640" y="2133720"/>
            <a:ext cx="703440" cy="1849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0" y="5877000"/>
            <a:ext cx="1319040" cy="801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Feliz Navidad!"/>
          <p:cNvPicPr/>
          <p:nvPr/>
        </p:nvPicPr>
        <p:blipFill>
          <a:blip r:embed="rId9"/>
          <a:stretch/>
        </p:blipFill>
        <p:spPr>
          <a:xfrm>
            <a:off x="179280" y="189000"/>
            <a:ext cx="1079640" cy="1039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Feliz Navidad!"/>
          <p:cNvPicPr/>
          <p:nvPr/>
        </p:nvPicPr>
        <p:blipFill>
          <a:blip r:embed="rId10"/>
          <a:stretch/>
        </p:blipFill>
        <p:spPr>
          <a:xfrm>
            <a:off x="7812000" y="189000"/>
            <a:ext cx="1141560" cy="1100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4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400"/>
                            </p:stCondLst>
                            <p:childTnLst>
                              <p:par>
                                <p:cTn id="1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4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34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4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7400"/>
                            </p:stCondLst>
                            <p:childTnLst>
                              <p:par>
                                <p:cTn id="2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9400"/>
                            </p:stCondLst>
                            <p:childTnLst>
                              <p:par>
                                <p:cTn id="2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140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3400"/>
                            </p:stCondLst>
                            <p:childTnLst>
                              <p:par>
                                <p:cTn id="2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843280" y="5013360"/>
            <a:ext cx="3085920" cy="1476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3657600" cy="39434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3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23:59:53Z</dcterms:created>
  <dc:creator>Usuario</dc:creator>
  <dc:description/>
  <dc:language>en-US</dc:language>
  <cp:lastModifiedBy>HecvarF</cp:lastModifiedBy>
  <dcterms:modified xsi:type="dcterms:W3CDTF">2007-12-02T09:43:17Z</dcterms:modified>
  <cp:revision>4</cp:revision>
  <dc:subject/>
  <dc:title>Diapositiva 1</dc:title>
</cp:coreProperties>
</file>