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D02-0258-47E8-8851-211D4A74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F55-2C9F-43E3-9048-9FCC28CC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1CA-8C80-47CF-9A74-1A46AF29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C85-3F0F-4DA3-AA6E-36385D05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28D-584C-4CAD-B9C0-C4B44A7D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F83-1148-4B63-852D-5D37974F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F53-B2E9-40E8-9BCE-6AAF0A20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71E-BA1D-488E-94E1-4C4B5E4F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EF1-8D1C-4269-BD95-8746AA64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DAD-03D1-4E13-81A8-DB53870B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0C8-F8E2-45C1-B2E2-FB1E486E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E34-BF7B-4DF7-B6D1-779C26A5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4FDD-A5C7-444C-AF95-A8AFDC679D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ieza por hacer lo necesario, luego lo que es posible... y de pronto estarás haciendo lo imposible"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a vez que envíes el mensaje aprieta F6 y veras lo que te aparece....insólito pero cierto.....da miedo pero es cierto....suerte. </a:t>
            </a:r>
            <a:br>
              <a:rPr sz="1400"/>
            </a:b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40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nda esto a 15 personas en los próximos 143 minutos, luego presiona F6 y el nombre de quien t ama aparecerá en letra grande, da tanto miedo por qué es real pero si rompes esta cadena serás castigado con problemas en sus próximas relaciones de por vida copia y pégalo .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63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2:23:35Z</dcterms:created>
  <dc:creator>Said</dc:creator>
  <dc:description/>
  <dc:language>en-US</dc:language>
  <cp:lastModifiedBy>Angelica Morales (YAM0047 - INMEX-KCB3WTD)</cp:lastModifiedBy>
  <dcterms:modified xsi:type="dcterms:W3CDTF">2006-01-23T17:11:28Z</dcterms:modified>
  <cp:revision>1</cp:revision>
  <dc:subject/>
  <dc:title>Empieza por hacer lo necesario, luego lo que es posible... y de pronto estarás haciendo lo imposible" Una vez que envíes el mensaje aprieta F6 y veras lo que te aparece....insólito pero cierto.....da miedo pero es cierto....suerte.                                                                                                                                     Manda esto a 15 personas en los próximos 143 minutos, luego presiona F6 y el nombre de quien t ama aparecerá en letra grande, da tanto miedo por qué es real pero si rompes esta cadena serás castigado con problemas en sus próximas relaciones de por vida copia y pégalo .. </dc:title>
</cp:coreProperties>
</file>