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CLIC.WAV" ContentType="audio/x-wav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TristeeMelancolico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5C07-48E9-4B60-874F-6DBDBA90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8415-EC14-44D8-A52A-39C1C562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0937-9D92-4E84-BDBC-5249AAA7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1F15-E2EF-4B0B-9FF7-88F2FA76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9A59-6F70-42A3-8737-CDF9CBB9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4601-6DBA-4738-9026-4FD4BFE0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A5FE-C9E9-48FF-8D64-303B9189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AE8B-03E0-4E5B-AB88-3E0A6872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76AD-C39B-4A8C-8B4E-C5FA7648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45D2-34A3-49E9-A4F6-A79D460A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6962-B82D-492E-9906-EA6F6868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8FFB-152D-4CFD-A624-EF0C1392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0DF4-92BC-40D0-91D3-8270B16A0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isteeMelancolic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TristeeMelancolico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835280" y="2349360"/>
            <a:ext cx="36954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¿Cual es la razón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or la que estamos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 favor de la Paz?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53" name=""/>
            <p:cNvSpPr/>
            <p:nvPr/>
          </p:nvSpPr>
          <p:spPr>
            <a:xfrm>
              <a:off x="7772400" y="0"/>
              <a:ext cx="1371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153280" cy="6859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1920" y="431640"/>
            <a:ext cx="9047160" cy="602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714240"/>
            <a:ext cx="7499520" cy="552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499520" cy="540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8288280" cy="5597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68360" y="580536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Nagasaki póst-holocausto nu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6080" y="44280"/>
            <a:ext cx="6811920" cy="5169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050920" y="5373720"/>
            <a:ext cx="55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in pala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71640" y="1004760"/>
            <a:ext cx="7488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MUNDO ESTÁ EN GU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MUNDO ESTÁ DE L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STE  e-mail  DEBE  RECORRER  LA 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CONVENCER INCLUSO A AQUEL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NO QUIEREN COMPRENDER. 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XIGIMOS QUE EN NUESTRO PLAN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PAZ SE SOBREPONGA A TODAS LAS CO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4360" y="1187280"/>
            <a:ext cx="7848360" cy="448308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DIMOS  QUE  ESTE  e-mail  SEA  TRADUCID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 TODAS LAS LENGU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RA QUE 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N DISTINCIÓN DE RAZA, DE COLO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 RELIGIÓN O DE NACIONALIDA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UEDAN PARTICIPAR DE ESTA G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TICIÓN POR LA PA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16000" y="33336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Gracias por no romper esta cade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5054760"/>
            <a:ext cx="64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Que todos los seres, en todos el mundo, sean felices y bienaventurad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46000" y="620640"/>
            <a:ext cx="7471080" cy="5607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76360" y="3573360"/>
            <a:ext cx="59752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merican Classic Extra Bold"/>
              </a:rPr>
              <a:t>Pa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merican Classic Extra Bold"/>
              </a:rPr>
              <a:t>Pe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merican Classic Extra Bold"/>
              </a:rPr>
              <a:t>Shan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4880" y="609480"/>
            <a:ext cx="773424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859440" cy="447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95640" y="404640"/>
            <a:ext cx="4595760" cy="616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661520" cy="514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4480" y="836640"/>
            <a:ext cx="7788240" cy="521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959880" cy="521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271440"/>
            <a:ext cx="4883040" cy="639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0360" y="692280"/>
            <a:ext cx="3684600" cy="564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4:16:47Z</dcterms:created>
  <dc:creator/>
  <dc:description/>
  <dc:language>en-US</dc:language>
  <cp:lastModifiedBy>Gaspar V.</cp:lastModifiedBy>
  <dcterms:modified xsi:type="dcterms:W3CDTF">2006-10-16T23:11:03Z</dcterms:modified>
  <cp:revision>30</cp:revision>
  <dc:subject/>
  <dc:title>Por la Paz</dc:title>
</cp:coreProperties>
</file>