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31EE-2722-4AEF-9A1A-28A8816DC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65FA-E4AD-4420-9B68-B7B09E09C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4B21-5CFD-4427-9A48-033F3CCFE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35F8-82AA-475C-B5CC-0F997E8F0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6F2D-CAB6-44C3-B6C7-CD8610774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1549-3DFE-474E-8DED-54AA4031E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BFEB-651C-4949-AD16-4A8BF8681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25EA-304C-4473-8120-073E645B6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471E-7E0F-4A7F-914E-BF0A447DD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125A-AE60-461C-BEE3-58D7719FB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A6BE-8F56-4BB6-8F55-793D15782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6A64-E031-476D-AF56-82EC3CD8F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ED315-7EE5-49B6-815F-C2806C0073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916360" y="1628640"/>
          <a:ext cx="3240000" cy="228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16360" y="1628640"/>
                    <a:ext cx="3240000" cy="228600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71360" y="-40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4221000"/>
            <a:ext cx="820908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NO SOMOS DOGMÁTICOS; es la realidad; son las relaciones sociales las que determinan y condicionan las categorías con las que las interpretamos, y no al revés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60280"/>
            <a:ext cx="8604360" cy="862560"/>
          </a:xfrm>
          <a:prstGeom prst="rect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l </a:t>
            </a:r>
            <a:r>
              <a:rPr b="1" lang="es-CL" sz="2000" spc="-1" strike="noStrike">
                <a:solidFill>
                  <a:srgbClr val="ff0000"/>
                </a:solidFill>
                <a:latin typeface="Arial"/>
              </a:rPr>
              <a:t>Marxismo-Leninismo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sigue vigente como Teoría Revolucion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7993080" cy="70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NO SOMOS VOLUNTARISTAS,  ni actuamos sin los lineamientos ideológicos que nos orienten a ser certero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55640" y="5950080"/>
            <a:ext cx="79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20160000">
            <a:off x="250920" y="188640"/>
            <a:ext cx="342720" cy="32076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32400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cover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259920"/>
            <a:ext cx="7920000" cy="62643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n el 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PUEBLO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, como Fuerza Principal Político-Milita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reando </a:t>
            </a: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CONCIENCIA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Revolucionar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y con el </a:t>
            </a: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FUSIL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, como guía de la luch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istórica y consta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R LA RAZON Y LA FUERZA, LOS TRABAJADORES AL PO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ÓLO PODEMOS LA VÍA REVOLUCIONAR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BATE  O MUE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20160000">
            <a:off x="179280" y="259920"/>
            <a:ext cx="343080" cy="32076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20160000">
            <a:off x="7758000" y="5483160"/>
            <a:ext cx="1152720" cy="87948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cover dir="u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2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2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20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2000"/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2000"/>
                                        <p:tgtEl>
                                          <p:spTgt spid="1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9640" y="259920"/>
            <a:ext cx="7920000" cy="626436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Un fraternal Saludo Revolucionario a todos los combatientes del mund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 todos los Compañeros perseguido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 los Combatientes prisioneros de cuerpo, pero libres en dign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 los que resisten la ofensiva imperialis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 los que no se detienen por mezquinos intereses particular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 todos los que pueden seguir de pie con la frente en al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 los que siguen con justeza haciendo camino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0160000">
            <a:off x="179280" y="259920"/>
            <a:ext cx="343080" cy="32076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20160000">
            <a:off x="7758000" y="5483160"/>
            <a:ext cx="1152720" cy="87948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cover dir="u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2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20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20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2000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2000"/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826920" y="1052640"/>
          <a:ext cx="7115400" cy="51051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052640"/>
                    <a:ext cx="7115400" cy="51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cover dir="u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7" dur="1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6" dur="2000" fill="hold"/>
                                        <p:tgtEl>
                                          <p:spTgt spid="11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284720" y="1989000"/>
            <a:ext cx="2579760" cy="2735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 rot="20160000">
            <a:off x="395280" y="620280"/>
            <a:ext cx="495360" cy="39384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1360" y="-40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00000" y="404640"/>
            <a:ext cx="8244000" cy="825480"/>
          </a:xfrm>
          <a:prstGeom prst="rect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IGUIENDO LAS HUELLAS DE NUESTROS </a:t>
            </a: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PUEBLOS INDO-AMERICA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852640"/>
            <a:ext cx="3168720" cy="192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orque la primera batalla que se dio contra el capitalismo venido a nuestra América fue con toda la valentía, rebeldía y fuerz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76360" y="5589720"/>
            <a:ext cx="7488360" cy="70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Y porque  el grito de guerra dado hace más de 500 años, sigue vivo con la misma justeza que nuestra historia cono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189000"/>
            <a:ext cx="104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cover dir="u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" dur="2000" fill="hold"/>
                                        <p:tgtEl>
                                          <p:spTgt spid="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3635280" y="2349360"/>
            <a:ext cx="1944720" cy="20876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 rot="20160000">
            <a:off x="395280" y="333000"/>
            <a:ext cx="343080" cy="32076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1360" y="-40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97680" y="763920"/>
            <a:ext cx="8103960" cy="459720"/>
          </a:xfrm>
          <a:prstGeom prst="rect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 una visión Estratégica de l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ucha Latinoamerican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2060640"/>
            <a:ext cx="288000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la continuidad del Ejército Libertado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91280" y="3645000"/>
            <a:ext cx="2952720" cy="1922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a  construir una sola fuerza, que golpee mas fuerte y duro, al enemigo invasor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19280" y="5791320"/>
            <a:ext cx="590544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Y por la libertad de nuestra Indo-América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cover dir="u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250" autoRev="1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5" dur="250" autoRev="1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6" dur="250" autoRev="1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50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" dur="2000" fill="hold"/>
                                        <p:tgtEl>
                                          <p:spTgt spid="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5076720" y="2060640"/>
          <a:ext cx="2160720" cy="2592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76720" y="2060640"/>
                    <a:ext cx="2160720" cy="25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 rot="20160000">
            <a:off x="826920" y="549000"/>
            <a:ext cx="343080" cy="32076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1360" y="-40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87280" y="605160"/>
            <a:ext cx="6480360" cy="398880"/>
          </a:xfrm>
          <a:prstGeom prst="rect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 POR EL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NTERNACIONALISMO PROLETARI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63640" y="5734080"/>
            <a:ext cx="8280360" cy="825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que la lucha antiimperialista es una estrategia que no la sacrificamos por ningún paso táctico que la arries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cover dir="u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5" dur="2000" fill="hold"/>
                                        <p:tgtEl>
                                          <p:spTgt spid="6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4211640" y="1557360"/>
            <a:ext cx="1873080" cy="23763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 rot="20160000">
            <a:off x="539640" y="475920"/>
            <a:ext cx="343080" cy="32076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1360" y="-40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71640" y="247680"/>
            <a:ext cx="8093160" cy="825480"/>
          </a:xfrm>
          <a:prstGeom prst="rect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través, de la unificación de la lucha, y de l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ordinación de  las Vanguard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4797360"/>
            <a:ext cx="8424720" cy="1008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Y porque en nuestro país, al igual que la necesidad de los pueblos explotados y oprimidos del mundo, no puede quedar entregado a una guerra encubierta, sin la convicción que es posible revertir y venc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cover dir="u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1" dur="2000" fill="hold"/>
                                        <p:tgtEl>
                                          <p:spTgt spid="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2050920" y="1341360"/>
            <a:ext cx="5473800" cy="58723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24276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EJERCITO POPULAR REVOLUCIONARIO</a:t>
            </a:r>
            <a:endParaRPr b="0" lang="en-US" sz="2800" spc="1" strike="noStrike">
              <a:ln w="4428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76" name=""/>
          <p:cNvSpPr/>
          <p:nvPr/>
        </p:nvSpPr>
        <p:spPr>
          <a:xfrm rot="20160000">
            <a:off x="1763640" y="5013000"/>
            <a:ext cx="343080" cy="32076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1496400">
            <a:off x="7308360" y="5013360"/>
            <a:ext cx="343080" cy="34272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71360" y="-40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9640" y="333360"/>
            <a:ext cx="80647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Por  eso creemos que u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619280" y="6021360"/>
            <a:ext cx="72007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Es un imperativo Estratégico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cover dir="u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" dur="250" autoRev="1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2" dur="250" autoRev="1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3" dur="250" autoRev="1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116000" y="-1251000"/>
            <a:ext cx="5829480" cy="5029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16288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BATALLON  CHILE</a:t>
            </a:r>
            <a:endParaRPr b="0" lang="en-US" sz="2400" spc="1" strike="noStrike">
              <a:ln w="4428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82" name=""/>
          <p:cNvSpPr/>
          <p:nvPr/>
        </p:nvSpPr>
        <p:spPr>
          <a:xfrm rot="20160000">
            <a:off x="1116000" y="1341000"/>
            <a:ext cx="343080" cy="32076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1496400">
            <a:off x="6803640" y="1052640"/>
            <a:ext cx="343080" cy="34272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71360" y="-40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56000" y="62064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Y u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4797360"/>
            <a:ext cx="828036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Nuestro desarrollo Táctico para la UN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cover dir="u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" dur="250" autoRev="1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0" dur="250" autoRev="1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1" dur="250" autoRev="1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124000" y="1341360"/>
            <a:ext cx="3861000" cy="331164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419640" y="2708280"/>
            <a:ext cx="12967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I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89" name=""/>
          <p:cNvSpPr/>
          <p:nvPr/>
        </p:nvSpPr>
        <p:spPr>
          <a:xfrm>
            <a:off x="171360" y="-40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71640" y="5300640"/>
            <a:ext cx="89643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ON TODAS LAS FUERZAS DE LA HISTORIA </a:t>
            </a: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0920" y="476280"/>
            <a:ext cx="71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Por eso, SEGUIMOS ADELAN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cover dir="u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1" dur="2000" fill="hold"/>
                                        <p:tgtEl>
                                          <p:spTgt spid="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1116000" y="260280"/>
            <a:ext cx="6058080" cy="6953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24276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EJERCITO POPULAR REVOLUCIONARIO</a:t>
            </a:r>
            <a:endParaRPr b="0" lang="en-US" sz="2800" spc="1" strike="noStrike">
              <a:ln w="4428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258920" y="1628640"/>
            <a:ext cx="5829120" cy="5029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16288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BATALLON  CHILE</a:t>
            </a:r>
            <a:endParaRPr b="0" lang="en-US" sz="2400" spc="1" strike="noStrike">
              <a:ln w="4428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94" name=""/>
          <p:cNvSpPr/>
          <p:nvPr/>
        </p:nvSpPr>
        <p:spPr>
          <a:xfrm>
            <a:off x="2627280" y="1916280"/>
            <a:ext cx="3429000" cy="27432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268360" y="4437000"/>
            <a:ext cx="914400" cy="12574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5435640" y="4005360"/>
            <a:ext cx="914400" cy="1239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7" name=""/>
          <p:cNvGraphicFramePr/>
          <p:nvPr/>
        </p:nvGraphicFramePr>
        <p:xfrm>
          <a:off x="3203640" y="549360"/>
          <a:ext cx="1800000" cy="127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549360"/>
                    <a:ext cx="1800000" cy="12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1908000" y="1557360"/>
          <a:ext cx="1028880" cy="1371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08000" y="1557360"/>
                    <a:ext cx="102888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1" name="" descr=""/>
          <p:cNvPicPr/>
          <p:nvPr/>
        </p:nvPicPr>
        <p:blipFill>
          <a:blip r:embed="rId7">
            <a:lum bright="6000"/>
          </a:blip>
          <a:stretch/>
        </p:blipFill>
        <p:spPr>
          <a:xfrm>
            <a:off x="5219640" y="1628640"/>
            <a:ext cx="1143000" cy="11559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3708360" y="2997360"/>
            <a:ext cx="1143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I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03" name=""/>
          <p:cNvSpPr/>
          <p:nvPr/>
        </p:nvSpPr>
        <p:spPr>
          <a:xfrm rot="20160000">
            <a:off x="971640" y="4581000"/>
            <a:ext cx="342720" cy="32076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496400">
            <a:off x="6948000" y="4508640"/>
            <a:ext cx="343080" cy="34272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1360" y="-40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u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1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0"/>
                            </p:stCondLst>
                            <p:childTnLst>
                              <p:par>
                                <p:cTn id="1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7000"/>
                            </p:stCondLst>
                            <p:childTnLst>
                              <p:par>
                                <p:cTn id="1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9000"/>
                            </p:stCondLst>
                            <p:childTnLst>
                              <p:par>
                                <p:cTn id="1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2500"/>
                            </p:stCondLst>
                            <p:childTnLst>
                              <p:par>
                                <p:cTn id="15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4500"/>
                            </p:stCondLst>
                            <p:childTnLst>
                              <p:par>
                                <p:cTn id="16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3T21:12:37Z</dcterms:created>
  <dc:creator>wwww</dc:creator>
  <dc:description/>
  <dc:language>en-US</dc:language>
  <cp:lastModifiedBy>hh</cp:lastModifiedBy>
  <dcterms:modified xsi:type="dcterms:W3CDTF">2007-12-29T23:00:37Z</dcterms:modified>
  <cp:revision>20</cp:revision>
  <dc:subject/>
  <dc:title>Diapositiva 1</dc:title>
</cp:coreProperties>
</file>